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gif" ContentType="image/gif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90B7-36AE-4292-825F-633E99DFF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EF83-C756-4EE7-A3EE-56C11C08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E598-0BD8-41A7-9C8A-77B3AE123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DA09-B5B4-4307-B930-449E5A83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46D3-5478-4E23-BEDA-F8C3C5FD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C628-4E7D-4001-BDBC-B2F0EF4C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CCDA-DFD4-4A38-B475-E215BBA4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8360-C5E6-4145-84D1-3776CEA5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1C32-69B7-48F1-8AA2-7145776A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D5EB-7B13-47B1-A5F5-63EDD85B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4B25-5040-4936-8489-338D704A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5D5B-E2FD-476A-BF62-791AF88D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F436-3E2D-4AF2-99D6-F6B7785DD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gif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gif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gif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gif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gif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gif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gif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gif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gif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2"/>
          <a:stretch/>
        </p:blipFill>
        <p:spPr>
          <a:xfrm>
            <a:off x="4786200" y="0"/>
            <a:ext cx="4338720" cy="77472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"/>
          <p:cNvPicPr/>
          <p:nvPr/>
        </p:nvPicPr>
        <p:blipFill>
          <a:blip r:embed="rId3"/>
          <a:stretch/>
        </p:blipFill>
        <p:spPr>
          <a:xfrm>
            <a:off x="108000" y="5516640"/>
            <a:ext cx="129528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900000" y="549360"/>
            <a:ext cx="2197080" cy="2305080"/>
            <a:chOff x="900000" y="549360"/>
            <a:chExt cx="2197080" cy="2305080"/>
          </a:xfrm>
        </p:grpSpPr>
        <p:pic>
          <p:nvPicPr>
            <p:cNvPr id="188" name="Picture 3" descr="звезда1"/>
            <p:cNvPicPr/>
            <p:nvPr/>
          </p:nvPicPr>
          <p:blipFill>
            <a:blip r:embed="rId2"/>
            <a:stretch/>
          </p:blipFill>
          <p:spPr>
            <a:xfrm>
              <a:off x="900000" y="549360"/>
              <a:ext cx="219708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WordArt 4"/>
            <p:cNvSpPr txBox="1"/>
            <p:nvPr/>
          </p:nvSpPr>
          <p:spPr>
            <a:xfrm>
              <a:off x="1619280" y="1413000"/>
              <a:ext cx="514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8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90" name="Group 5"/>
          <p:cNvGrpSpPr/>
          <p:nvPr/>
        </p:nvGrpSpPr>
        <p:grpSpPr>
          <a:xfrm>
            <a:off x="4067280" y="1268280"/>
            <a:ext cx="2197080" cy="2305080"/>
            <a:chOff x="4067280" y="1268280"/>
            <a:chExt cx="2197080" cy="2305080"/>
          </a:xfrm>
        </p:grpSpPr>
        <p:pic>
          <p:nvPicPr>
            <p:cNvPr id="191" name="Picture 6" descr="звезда1"/>
            <p:cNvPicPr/>
            <p:nvPr/>
          </p:nvPicPr>
          <p:blipFill>
            <a:blip r:embed="rId3"/>
            <a:stretch/>
          </p:blipFill>
          <p:spPr>
            <a:xfrm>
              <a:off x="4067280" y="1268280"/>
              <a:ext cx="219708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WordArt 7"/>
            <p:cNvSpPr txBox="1"/>
            <p:nvPr/>
          </p:nvSpPr>
          <p:spPr>
            <a:xfrm>
              <a:off x="4786560" y="2131920"/>
              <a:ext cx="514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8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93" name="Group 8"/>
          <p:cNvGrpSpPr/>
          <p:nvPr/>
        </p:nvGrpSpPr>
        <p:grpSpPr>
          <a:xfrm>
            <a:off x="6372360" y="3573360"/>
            <a:ext cx="2197080" cy="2305080"/>
            <a:chOff x="6372360" y="3573360"/>
            <a:chExt cx="2197080" cy="2305080"/>
          </a:xfrm>
        </p:grpSpPr>
        <p:pic>
          <p:nvPicPr>
            <p:cNvPr id="194" name="Picture 9" descr="звезда1"/>
            <p:cNvPicPr/>
            <p:nvPr/>
          </p:nvPicPr>
          <p:blipFill>
            <a:blip r:embed="rId4"/>
            <a:stretch/>
          </p:blipFill>
          <p:spPr>
            <a:xfrm>
              <a:off x="6372360" y="3573360"/>
              <a:ext cx="219708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WordArt 10"/>
            <p:cNvSpPr txBox="1"/>
            <p:nvPr/>
          </p:nvSpPr>
          <p:spPr>
            <a:xfrm>
              <a:off x="7091640" y="4437000"/>
              <a:ext cx="514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8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96" name="Group 11"/>
          <p:cNvGrpSpPr/>
          <p:nvPr/>
        </p:nvGrpSpPr>
        <p:grpSpPr>
          <a:xfrm>
            <a:off x="-2052720" y="6093000"/>
            <a:ext cx="1882800" cy="1909440"/>
            <a:chOff x="-2052720" y="6093000"/>
            <a:chExt cx="1882800" cy="1909440"/>
          </a:xfrm>
        </p:grpSpPr>
        <p:pic>
          <p:nvPicPr>
            <p:cNvPr id="197" name="Picture 12" descr="ракета1"/>
            <p:cNvPicPr/>
            <p:nvPr/>
          </p:nvPicPr>
          <p:blipFill>
            <a:blip r:embed="rId5"/>
            <a:stretch/>
          </p:blipFill>
          <p:spPr>
            <a:xfrm>
              <a:off x="-2052720" y="6093000"/>
              <a:ext cx="1882800" cy="19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WordArt 13"/>
            <p:cNvSpPr txBox="1"/>
            <p:nvPr/>
          </p:nvSpPr>
          <p:spPr>
            <a:xfrm rot="18774000">
              <a:off x="-1444320" y="6689880"/>
              <a:ext cx="923760" cy="45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"/>
                </a:rPr>
                <a:t>82+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99" name="Group 14"/>
          <p:cNvGrpSpPr/>
          <p:nvPr/>
        </p:nvGrpSpPr>
        <p:grpSpPr>
          <a:xfrm>
            <a:off x="613800" y="3960720"/>
            <a:ext cx="2878560" cy="2945880"/>
            <a:chOff x="613800" y="3960720"/>
            <a:chExt cx="2878560" cy="2945880"/>
          </a:xfrm>
        </p:grpSpPr>
        <p:grpSp>
          <p:nvGrpSpPr>
            <p:cNvPr id="200" name="Group 15"/>
            <p:cNvGrpSpPr/>
            <p:nvPr/>
          </p:nvGrpSpPr>
          <p:grpSpPr>
            <a:xfrm>
              <a:off x="613800" y="3960720"/>
              <a:ext cx="2878560" cy="2945880"/>
              <a:chOff x="613800" y="3960720"/>
              <a:chExt cx="2878560" cy="2945880"/>
            </a:xfrm>
          </p:grpSpPr>
          <p:pic>
            <p:nvPicPr>
              <p:cNvPr id="201" name="Picture 16" descr="пламя"/>
              <p:cNvPicPr/>
              <p:nvPr/>
            </p:nvPicPr>
            <p:blipFill>
              <a:blip r:embed="rId6"/>
              <a:stretch/>
            </p:blipFill>
            <p:spPr>
              <a:xfrm rot="13354200">
                <a:off x="1104840" y="4974840"/>
                <a:ext cx="992160" cy="183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2" name="Picture 17" descr="ракета1"/>
              <p:cNvPicPr/>
              <p:nvPr/>
            </p:nvPicPr>
            <p:blipFill>
              <a:blip r:embed="rId7"/>
              <a:stretch/>
            </p:blipFill>
            <p:spPr>
              <a:xfrm>
                <a:off x="1609560" y="3960720"/>
                <a:ext cx="1882800" cy="1909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3" name="WordArt 18"/>
            <p:cNvSpPr txBox="1"/>
            <p:nvPr/>
          </p:nvSpPr>
          <p:spPr>
            <a:xfrm rot="18774000">
              <a:off x="2236680" y="4557600"/>
              <a:ext cx="923760" cy="45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"/>
                </a:rPr>
                <a:t>82+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204" name="Picture 20" descr="rocky1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468360" y="3716280"/>
            <a:ext cx="3816360" cy="288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2.22222E-006 C 0.00747 -0.0132 0.0191 -0.02176 0.02778 -0.03333 C 0.03369 -0.04121 0.03768 -0.04746 0.04532 -0.05301 C 0.05244 -0.0581 0.06042 -0.06134 0.06754 -0.06667 C 0.07778 -0.07408 0.0856 -0.08588 0.09532 -0.09375 C 0.09931 -0.09699 0.10122 -0.10046 0.10556 -0.10232 C 0.10834 -0.10602 0.11025 -0.1081 0.1139 -0.10972 C 0.11546 -0.11134 0.11685 -0.11343 0.11858 -0.11482 C 0.11945 -0.11551 0.12049 -0.11528 0.12136 -0.11597 C 0.13108 -0.12477 0.14028 -0.13542 0.15087 -0.14306 C 0.15712 -0.14769 0.16216 -0.15486 0.16945 -0.15671 C 0.17188 -0.1588 0.17414 -0.16158 0.17692 -0.16296 C 0.17935 -0.16412 0.18421 -0.16528 0.18421 -0.16528 C 0.19133 -0.17222 0.20018 -0.1757 0.20834 -0.18009 C 0.22587 -0.18958 0.24254 -0.20093 0.25903 -0.21227 C 0.26737 -0.21783 0.2757 -0.22523 0.28334 -0.23195 C 0.29185 -0.23958 0.27969 -0.23171 0.28976 -0.23935 C 0.29775 -0.24537 0.30504 -0.25162 0.31303 -0.25787 C 0.31442 -0.25903 0.31528 -0.26134 0.31667 -0.26296 C 0.32153 -0.26852 0.32726 -0.27477 0.33334 -0.27778 C 0.33907 -0.28357 0.34567 -0.29144 0.35278 -0.29375 C 0.35903 -0.30208 0.36633 -0.30394 0.37501 -0.30602 C 0.38039 -0.31088 0.3889 -0.31343 0.39532 -0.31482 C 0.3981 -0.31551 0.40365 -0.31597 0.40365 -0.31597 E">
                                      <p:cBhvr>
                                        <p:cTn id="334" dur="3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36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8.14815E-006 C 0.00764 -0.00649 0.01406 -0.01598 0.02049 -0.02454 C 0.02326 -0.02825 0.025 -0.03334 0.02778 -0.03704 C 0.03264 -0.05394 0.04549 -0.06876 0.05555 -0.0801 C 0.06389 -0.08936 0.07257 -0.09908 0.0816 -0.10741 C 0.09097 -0.11598 0.10174 -0.12223 0.11111 -0.13079 C 0.12153 -0.14005 0.13229 -0.14792 0.14271 -0.15672 C 0.15382 -0.16598 0.16458 -0.17825 0.175 -0.18889 C 0.18055 -0.19445 0.18576 -0.20348 0.1908 -0.20857 C 0.19219 -0.20996 0.1941 -0.20996 0.19549 -0.21112 C 0.20035 -0.21482 0.19826 -0.21505 0.20278 -0.21968 C 0.20712 -0.22408 0.21233 -0.22639 0.21667 -0.23079 C 0.22639 -0.24075 0.23663 -0.25186 0.24722 -0.26042 C 0.2599 -0.27061 0.24774 -0.26042 0.26024 -0.26899 C 0.27101 -0.27639 0.28038 -0.28519 0.29167 -0.29121 C 0.30035 -0.29584 0.30729 -0.30602 0.3158 -0.31112 C 0.32309 -0.31551 0.33073 -0.31899 0.33802 -0.32338 C 0.34792 -0.32963 0.35642 -0.33866 0.36667 -0.34445 C 0.3717 -0.35116 0.37708 -0.35255 0.38333 -0.35672 C 0.39201 -0.36251 0.40035 -0.3676 0.40937 -0.37269 C 0.43212 -0.38565 0.45503 -0.397 0.47778 -0.40973 C 0.48038 -0.41112 0.48264 -0.41366 0.48524 -0.41482 C 0.50243 -0.42246 0.4868 -0.41227 0.50191 -0.41968 C 0.5191 -0.42825 0.53663 -0.43403 0.55382 -0.4419 C 0.56163 -0.44538 0.5618 -0.44399 0.57049 -0.44676 C 0.5849 -0.45139 0.59878 -0.45834 0.61302 -0.46413 C 0.61476 -0.46482 0.62882 -0.47038 0.62882 -0.47038 C 0.63368 -0.47107 0.64358 -0.47269 0.64358 -0.47269 C 0.65243 -0.47616 0.66128 -0.47963 0.67049 -0.48149 C 0.67917 -0.48334 0.68507 -0.48241 0.69444 -0.48519 C 0.72049 -0.49329 0.74687 -0.49607 0.77326 -0.50116 C 0.79392 -0.5051 0.81458 -0.50973 0.83524 -0.51343 C 0.83767 -0.51436 0.84028 -0.51551 0.84271 -0.51598 C 0.84705 -0.5169 0.85555 -0.51852 0.85555 -0.51852 C 0.87951 -0.52848 0.90642 -0.53704 0.9316 -0.53704 E">
                                      <p:cBhvr>
                                        <p:cTn id="345" dur="5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53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62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рямоугольник 1"/>
          <p:cNvSpPr/>
          <p:nvPr/>
        </p:nvSpPr>
        <p:spPr>
          <a:xfrm>
            <a:off x="2050920" y="58467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Школа «АБВ» http://www.shkola-abv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"/>
          <p:cNvSpPr/>
          <p:nvPr/>
        </p:nvSpPr>
        <p:spPr>
          <a:xfrm>
            <a:off x="1116000" y="907920"/>
            <a:ext cx="770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ttp://forum.lightray.ru/download/file.php?id=10411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звездное не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ttp://images.clipartof.com/thumbnails/7997-Clipart-Picture-Of-A-Rocket-Mascot-Cartoon-Character-Logo.jpg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мультрак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ttp://kopona.com/uploads/posts/2011-01-10/21257-0.jpg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1 и 11 слай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900000" y="2852640"/>
            <a:ext cx="748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оставление и оформл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Леденева Галина Алексеевн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МБОУ лицей «МОК №2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г. Вороне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900000" y="549360"/>
            <a:ext cx="2197080" cy="2305080"/>
            <a:chOff x="900000" y="549360"/>
            <a:chExt cx="2197080" cy="2305080"/>
          </a:xfrm>
        </p:grpSpPr>
        <p:pic>
          <p:nvPicPr>
            <p:cNvPr id="44" name="Picture 5" descr="звезда1"/>
            <p:cNvPicPr/>
            <p:nvPr/>
          </p:nvPicPr>
          <p:blipFill>
            <a:blip r:embed="rId2"/>
            <a:stretch/>
          </p:blipFill>
          <p:spPr>
            <a:xfrm>
              <a:off x="900000" y="549360"/>
              <a:ext cx="219708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WordArt 6"/>
            <p:cNvSpPr txBox="1"/>
            <p:nvPr/>
          </p:nvSpPr>
          <p:spPr>
            <a:xfrm>
              <a:off x="1619280" y="1413000"/>
              <a:ext cx="514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6" name="Group 12"/>
          <p:cNvGrpSpPr/>
          <p:nvPr/>
        </p:nvGrpSpPr>
        <p:grpSpPr>
          <a:xfrm>
            <a:off x="4067280" y="1268280"/>
            <a:ext cx="2197080" cy="2305080"/>
            <a:chOff x="4067280" y="1268280"/>
            <a:chExt cx="2197080" cy="2305080"/>
          </a:xfrm>
        </p:grpSpPr>
        <p:pic>
          <p:nvPicPr>
            <p:cNvPr id="47" name="Picture 13" descr="звезда1"/>
            <p:cNvPicPr/>
            <p:nvPr/>
          </p:nvPicPr>
          <p:blipFill>
            <a:blip r:embed="rId3"/>
            <a:stretch/>
          </p:blipFill>
          <p:spPr>
            <a:xfrm>
              <a:off x="4067280" y="1268280"/>
              <a:ext cx="219708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WordArt 14"/>
            <p:cNvSpPr txBox="1"/>
            <p:nvPr/>
          </p:nvSpPr>
          <p:spPr>
            <a:xfrm>
              <a:off x="4786560" y="2131920"/>
              <a:ext cx="514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1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6372360" y="3573360"/>
            <a:ext cx="2197080" cy="2305080"/>
            <a:chOff x="6372360" y="3573360"/>
            <a:chExt cx="2197080" cy="2305080"/>
          </a:xfrm>
        </p:grpSpPr>
        <p:pic>
          <p:nvPicPr>
            <p:cNvPr id="50" name="Picture 16" descr="звезда1"/>
            <p:cNvPicPr/>
            <p:nvPr/>
          </p:nvPicPr>
          <p:blipFill>
            <a:blip r:embed="rId4"/>
            <a:stretch/>
          </p:blipFill>
          <p:spPr>
            <a:xfrm>
              <a:off x="6372360" y="3573360"/>
              <a:ext cx="219708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WordArt 17"/>
            <p:cNvSpPr txBox="1"/>
            <p:nvPr/>
          </p:nvSpPr>
          <p:spPr>
            <a:xfrm>
              <a:off x="7091640" y="4437000"/>
              <a:ext cx="514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1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2" name="Group 20"/>
          <p:cNvGrpSpPr/>
          <p:nvPr/>
        </p:nvGrpSpPr>
        <p:grpSpPr>
          <a:xfrm>
            <a:off x="-2052720" y="6093000"/>
            <a:ext cx="1882800" cy="1909440"/>
            <a:chOff x="-2052720" y="6093000"/>
            <a:chExt cx="1882800" cy="1909440"/>
          </a:xfrm>
        </p:grpSpPr>
        <p:pic>
          <p:nvPicPr>
            <p:cNvPr id="53" name="Picture 4" descr="ракета1"/>
            <p:cNvPicPr/>
            <p:nvPr/>
          </p:nvPicPr>
          <p:blipFill>
            <a:blip r:embed="rId5"/>
            <a:stretch/>
          </p:blipFill>
          <p:spPr>
            <a:xfrm>
              <a:off x="-2052720" y="6093000"/>
              <a:ext cx="1882800" cy="19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WordArt 18"/>
            <p:cNvSpPr txBox="1"/>
            <p:nvPr/>
          </p:nvSpPr>
          <p:spPr>
            <a:xfrm rot="18774000">
              <a:off x="-1444320" y="6689880"/>
              <a:ext cx="923760" cy="45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"/>
                </a:rPr>
                <a:t>26-1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5" name="Group 21"/>
          <p:cNvGrpSpPr/>
          <p:nvPr/>
        </p:nvGrpSpPr>
        <p:grpSpPr>
          <a:xfrm>
            <a:off x="613800" y="3960720"/>
            <a:ext cx="2878560" cy="2945880"/>
            <a:chOff x="613800" y="3960720"/>
            <a:chExt cx="2878560" cy="2945880"/>
          </a:xfrm>
        </p:grpSpPr>
        <p:grpSp>
          <p:nvGrpSpPr>
            <p:cNvPr id="56" name="Group 11"/>
            <p:cNvGrpSpPr/>
            <p:nvPr/>
          </p:nvGrpSpPr>
          <p:grpSpPr>
            <a:xfrm>
              <a:off x="613800" y="3960720"/>
              <a:ext cx="2878560" cy="2945880"/>
              <a:chOff x="613800" y="3960720"/>
              <a:chExt cx="2878560" cy="2945880"/>
            </a:xfrm>
          </p:grpSpPr>
          <p:pic>
            <p:nvPicPr>
              <p:cNvPr id="57" name="Picture 10" descr="пламя"/>
              <p:cNvPicPr/>
              <p:nvPr/>
            </p:nvPicPr>
            <p:blipFill>
              <a:blip r:embed="rId6"/>
              <a:stretch/>
            </p:blipFill>
            <p:spPr>
              <a:xfrm rot="13354200">
                <a:off x="1104840" y="4974840"/>
                <a:ext cx="992160" cy="183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Picture 8" descr="ракета1"/>
              <p:cNvPicPr/>
              <p:nvPr/>
            </p:nvPicPr>
            <p:blipFill>
              <a:blip r:embed="rId7"/>
              <a:stretch/>
            </p:blipFill>
            <p:spPr>
              <a:xfrm>
                <a:off x="1609560" y="3960720"/>
                <a:ext cx="1882800" cy="1909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9" name="WordArt 19"/>
            <p:cNvSpPr txBox="1"/>
            <p:nvPr/>
          </p:nvSpPr>
          <p:spPr>
            <a:xfrm rot="18774000">
              <a:off x="2236680" y="4557600"/>
              <a:ext cx="923760" cy="45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"/>
                </a:rPr>
                <a:t>26-1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60" name="Picture 22" descr="rocky1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468360" y="3716280"/>
            <a:ext cx="3816360" cy="288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2.22222E-006 C 0.00747 -0.0132 0.0191 -0.02176 0.02778 -0.03333 C 0.03369 -0.04121 0.03768 -0.04746 0.04532 -0.05301 C 0.05244 -0.0581 0.06042 -0.06134 0.06754 -0.06667 C 0.07778 -0.07408 0.0856 -0.08588 0.09532 -0.09375 C 0.09931 -0.09699 0.10122 -0.10046 0.10556 -0.10232 C 0.10834 -0.10602 0.11025 -0.1081 0.1139 -0.10972 C 0.11546 -0.11134 0.11685 -0.11343 0.11858 -0.11482 C 0.11945 -0.11551 0.12049 -0.11528 0.12136 -0.11597 C 0.13108 -0.12477 0.14028 -0.13542 0.15087 -0.14306 C 0.15712 -0.14769 0.16216 -0.15486 0.16945 -0.15671 C 0.17188 -0.1588 0.17414 -0.16158 0.17692 -0.16296 C 0.17935 -0.16412 0.18421 -0.16528 0.18421 -0.16528 C 0.19133 -0.17222 0.20018 -0.1757 0.20834 -0.18009 C 0.22587 -0.18958 0.24254 -0.20093 0.25903 -0.21227 C 0.26737 -0.21783 0.2757 -0.22523 0.28334 -0.23195 C 0.29185 -0.23958 0.27969 -0.23171 0.28976 -0.23935 C 0.29775 -0.24537 0.30504 -0.25162 0.31303 -0.25787 C 0.31442 -0.25903 0.31528 -0.26134 0.31667 -0.26296 C 0.32153 -0.26852 0.32726 -0.27477 0.33334 -0.27778 C 0.33907 -0.28357 0.34567 -0.29144 0.35278 -0.29375 C 0.35903 -0.30208 0.36633 -0.30394 0.37501 -0.30602 C 0.38039 -0.31088 0.3889 -0.31343 0.39532 -0.31482 C 0.3981 -0.31551 0.40365 -0.31597 0.40365 -0.31597 E">
                                      <p:cBhvr>
                                        <p:cTn id="6" dur="3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8.14815E-006 C 0.00764 -0.00649 0.01406 -0.01598 0.02049 -0.02454 C 0.02326 -0.02825 0.025 -0.03334 0.02778 -0.03704 C 0.03264 -0.05394 0.04549 -0.06876 0.05555 -0.0801 C 0.06389 -0.08936 0.07257 -0.09908 0.0816 -0.10741 C 0.09097 -0.11598 0.10174 -0.12223 0.11111 -0.13079 C 0.12153 -0.14005 0.13229 -0.14792 0.14271 -0.15672 C 0.15382 -0.16598 0.16458 -0.17825 0.175 -0.18889 C 0.18055 -0.19445 0.18576 -0.20348 0.1908 -0.20857 C 0.19219 -0.20996 0.1941 -0.20996 0.19549 -0.21112 C 0.20035 -0.21482 0.19826 -0.21505 0.20278 -0.21968 C 0.20712 -0.22408 0.21233 -0.22639 0.21667 -0.23079 C 0.22639 -0.24075 0.23663 -0.25186 0.24722 -0.26042 C 0.2599 -0.27061 0.24774 -0.26042 0.26024 -0.26899 C 0.27101 -0.27639 0.28038 -0.28519 0.29167 -0.29121 C 0.30035 -0.29584 0.30729 -0.30602 0.3158 -0.31112 C 0.32309 -0.31551 0.33073 -0.31899 0.33802 -0.32338 C 0.34792 -0.32963 0.35642 -0.33866 0.36667 -0.34445 C 0.3717 -0.35116 0.37708 -0.35255 0.38333 -0.35672 C 0.39201 -0.36251 0.40035 -0.3676 0.40937 -0.37269 C 0.43212 -0.38565 0.45503 -0.397 0.47778 -0.40973 C 0.48038 -0.41112 0.48264 -0.41366 0.48524 -0.41482 C 0.50243 -0.42246 0.4868 -0.41227 0.50191 -0.41968 C 0.5191 -0.42825 0.53663 -0.43403 0.55382 -0.4419 C 0.56163 -0.44538 0.5618 -0.44399 0.57049 -0.44676 C 0.5849 -0.45139 0.59878 -0.45834 0.61302 -0.46413 C 0.61476 -0.46482 0.62882 -0.47038 0.62882 -0.47038 C 0.63368 -0.47107 0.64358 -0.47269 0.64358 -0.47269 C 0.65243 -0.47616 0.66128 -0.47963 0.67049 -0.48149 C 0.67917 -0.48334 0.68507 -0.48241 0.69444 -0.48519 C 0.72049 -0.49329 0.74687 -0.49607 0.77326 -0.50116 C 0.79392 -0.5051 0.81458 -0.50973 0.83524 -0.51343 C 0.83767 -0.51436 0.84028 -0.51551 0.84271 -0.51598 C 0.84705 -0.5169 0.85555 -0.51852 0.85555 -0.51852 C 0.87951 -0.52848 0.90642 -0.53704 0.9316 -0.53704 E">
                                      <p:cBhvr>
                                        <p:cTn id="17" dur="5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6227640" y="3573360"/>
            <a:ext cx="2197080" cy="2305080"/>
            <a:chOff x="6227640" y="3573360"/>
            <a:chExt cx="2197080" cy="2305080"/>
          </a:xfrm>
        </p:grpSpPr>
        <p:pic>
          <p:nvPicPr>
            <p:cNvPr id="62" name="Picture 3" descr="звезда1"/>
            <p:cNvPicPr/>
            <p:nvPr/>
          </p:nvPicPr>
          <p:blipFill>
            <a:blip r:embed="rId2"/>
            <a:stretch/>
          </p:blipFill>
          <p:spPr>
            <a:xfrm>
              <a:off x="6227640" y="3573360"/>
              <a:ext cx="219708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WordArt 4"/>
            <p:cNvSpPr txBox="1"/>
            <p:nvPr/>
          </p:nvSpPr>
          <p:spPr>
            <a:xfrm>
              <a:off x="6946920" y="4437000"/>
              <a:ext cx="514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7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4" name="Group 5"/>
          <p:cNvGrpSpPr/>
          <p:nvPr/>
        </p:nvGrpSpPr>
        <p:grpSpPr>
          <a:xfrm>
            <a:off x="4067280" y="1268280"/>
            <a:ext cx="2197080" cy="2305080"/>
            <a:chOff x="4067280" y="1268280"/>
            <a:chExt cx="2197080" cy="2305080"/>
          </a:xfrm>
        </p:grpSpPr>
        <p:pic>
          <p:nvPicPr>
            <p:cNvPr id="65" name="Picture 6" descr="звезда1"/>
            <p:cNvPicPr/>
            <p:nvPr/>
          </p:nvPicPr>
          <p:blipFill>
            <a:blip r:embed="rId3"/>
            <a:stretch/>
          </p:blipFill>
          <p:spPr>
            <a:xfrm>
              <a:off x="4067280" y="1268280"/>
              <a:ext cx="219708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WordArt 7"/>
            <p:cNvSpPr txBox="1"/>
            <p:nvPr/>
          </p:nvSpPr>
          <p:spPr>
            <a:xfrm>
              <a:off x="4786560" y="2131920"/>
              <a:ext cx="514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7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7" name="Group 8"/>
          <p:cNvGrpSpPr/>
          <p:nvPr/>
        </p:nvGrpSpPr>
        <p:grpSpPr>
          <a:xfrm>
            <a:off x="826920" y="1052640"/>
            <a:ext cx="2197080" cy="2305080"/>
            <a:chOff x="826920" y="1052640"/>
            <a:chExt cx="2197080" cy="2305080"/>
          </a:xfrm>
        </p:grpSpPr>
        <p:pic>
          <p:nvPicPr>
            <p:cNvPr id="68" name="Picture 9" descr="звезда1"/>
            <p:cNvPicPr/>
            <p:nvPr/>
          </p:nvPicPr>
          <p:blipFill>
            <a:blip r:embed="rId4"/>
            <a:stretch/>
          </p:blipFill>
          <p:spPr>
            <a:xfrm>
              <a:off x="826920" y="1052640"/>
              <a:ext cx="219708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WordArt 10"/>
            <p:cNvSpPr txBox="1"/>
            <p:nvPr/>
          </p:nvSpPr>
          <p:spPr>
            <a:xfrm>
              <a:off x="1546200" y="1916280"/>
              <a:ext cx="514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6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0" name="Group 11"/>
          <p:cNvGrpSpPr/>
          <p:nvPr/>
        </p:nvGrpSpPr>
        <p:grpSpPr>
          <a:xfrm>
            <a:off x="-2052720" y="6093000"/>
            <a:ext cx="1882800" cy="1909440"/>
            <a:chOff x="-2052720" y="6093000"/>
            <a:chExt cx="1882800" cy="1909440"/>
          </a:xfrm>
        </p:grpSpPr>
        <p:pic>
          <p:nvPicPr>
            <p:cNvPr id="71" name="Picture 12" descr="ракета1"/>
            <p:cNvPicPr/>
            <p:nvPr/>
          </p:nvPicPr>
          <p:blipFill>
            <a:blip r:embed="rId5"/>
            <a:stretch/>
          </p:blipFill>
          <p:spPr>
            <a:xfrm>
              <a:off x="-2052720" y="6093000"/>
              <a:ext cx="1882800" cy="19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WordArt 13"/>
            <p:cNvSpPr txBox="1"/>
            <p:nvPr/>
          </p:nvSpPr>
          <p:spPr>
            <a:xfrm rot="18774000">
              <a:off x="-1444320" y="6689880"/>
              <a:ext cx="923760" cy="45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"/>
                </a:rPr>
                <a:t>35+4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3" name="Group 14"/>
          <p:cNvGrpSpPr/>
          <p:nvPr/>
        </p:nvGrpSpPr>
        <p:grpSpPr>
          <a:xfrm>
            <a:off x="613800" y="3960720"/>
            <a:ext cx="2878560" cy="2945880"/>
            <a:chOff x="613800" y="3960720"/>
            <a:chExt cx="2878560" cy="2945880"/>
          </a:xfrm>
        </p:grpSpPr>
        <p:grpSp>
          <p:nvGrpSpPr>
            <p:cNvPr id="74" name="Group 15"/>
            <p:cNvGrpSpPr/>
            <p:nvPr/>
          </p:nvGrpSpPr>
          <p:grpSpPr>
            <a:xfrm>
              <a:off x="613800" y="3960720"/>
              <a:ext cx="2878560" cy="2945880"/>
              <a:chOff x="613800" y="3960720"/>
              <a:chExt cx="2878560" cy="2945880"/>
            </a:xfrm>
          </p:grpSpPr>
          <p:pic>
            <p:nvPicPr>
              <p:cNvPr id="75" name="Picture 16" descr="пламя"/>
              <p:cNvPicPr/>
              <p:nvPr/>
            </p:nvPicPr>
            <p:blipFill>
              <a:blip r:embed="rId6"/>
              <a:stretch/>
            </p:blipFill>
            <p:spPr>
              <a:xfrm rot="13354200">
                <a:off x="1104840" y="4974840"/>
                <a:ext cx="992160" cy="183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Picture 17" descr="ракета1"/>
              <p:cNvPicPr/>
              <p:nvPr/>
            </p:nvPicPr>
            <p:blipFill>
              <a:blip r:embed="rId7"/>
              <a:stretch/>
            </p:blipFill>
            <p:spPr>
              <a:xfrm>
                <a:off x="1609560" y="3960720"/>
                <a:ext cx="1882800" cy="1909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7" name="WordArt 18"/>
            <p:cNvSpPr txBox="1"/>
            <p:nvPr/>
          </p:nvSpPr>
          <p:spPr>
            <a:xfrm rot="18774000">
              <a:off x="2236680" y="4557600"/>
              <a:ext cx="923760" cy="45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"/>
                </a:rPr>
                <a:t>35+4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78" name="Picture 19" descr="rocky1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468360" y="3716280"/>
            <a:ext cx="3816360" cy="288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2.22222E-006 C 0.00747 -0.0132 0.0191 -0.02176 0.02778 -0.03333 C 0.03369 -0.04121 0.03768 -0.04746 0.04532 -0.05301 C 0.05244 -0.0581 0.06042 -0.06134 0.06754 -0.06667 C 0.07778 -0.07408 0.0856 -0.08588 0.09532 -0.09375 C 0.09931 -0.09699 0.10122 -0.10046 0.10556 -0.10232 C 0.10834 -0.10602 0.11025 -0.1081 0.1139 -0.10972 C 0.11546 -0.11134 0.11685 -0.11343 0.11858 -0.11482 C 0.11945 -0.11551 0.12049 -0.11528 0.12136 -0.11597 C 0.13108 -0.12477 0.14028 -0.13542 0.15087 -0.14306 C 0.15712 -0.14769 0.16216 -0.15486 0.16945 -0.15671 C 0.17188 -0.1588 0.17414 -0.16158 0.17692 -0.16296 C 0.17935 -0.16412 0.18421 -0.16528 0.18421 -0.16528 C 0.19133 -0.17222 0.20018 -0.1757 0.20834 -0.18009 C 0.22587 -0.18958 0.24254 -0.20093 0.25903 -0.21227 C 0.26737 -0.21783 0.2757 -0.22523 0.28334 -0.23195 C 0.29185 -0.23958 0.27969 -0.23171 0.28976 -0.23935 C 0.29775 -0.24537 0.30504 -0.25162 0.31303 -0.25787 C 0.31442 -0.25903 0.31528 -0.26134 0.31667 -0.26296 C 0.32153 -0.26852 0.32726 -0.27477 0.33334 -0.27778 C 0.33907 -0.28357 0.34567 -0.29144 0.35278 -0.29375 C 0.35903 -0.30208 0.36633 -0.30394 0.37501 -0.30602 C 0.38039 -0.31088 0.3889 -0.31343 0.39532 -0.31482 C 0.3981 -0.31551 0.40365 -0.31597 0.40365 -0.31597 E">
                                      <p:cBhvr>
                                        <p:cTn id="47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8.14815E-006 C 0.00764 -0.00649 0.01406 -0.01598 0.02049 -0.02454 C 0.02326 -0.02825 0.025 -0.03334 0.02778 -0.03704 C 0.03264 -0.05394 0.04549 -0.06876 0.05555 -0.0801 C 0.06389 -0.08936 0.07257 -0.09908 0.0816 -0.10741 C 0.09097 -0.11598 0.10174 -0.12223 0.11111 -0.13079 C 0.12153 -0.14005 0.13229 -0.14792 0.14271 -0.15672 C 0.15382 -0.16598 0.16458 -0.17825 0.175 -0.18889 C 0.18055 -0.19445 0.18576 -0.20348 0.1908 -0.20857 C 0.19219 -0.20996 0.1941 -0.20996 0.19549 -0.21112 C 0.20035 -0.21482 0.19826 -0.21505 0.20278 -0.21968 C 0.20712 -0.22408 0.21233 -0.22639 0.21667 -0.23079 C 0.22639 -0.24075 0.23663 -0.25186 0.24722 -0.26042 C 0.2599 -0.27061 0.24774 -0.26042 0.26024 -0.26899 C 0.27101 -0.27639 0.28038 -0.28519 0.29167 -0.29121 C 0.30035 -0.29584 0.30729 -0.30602 0.3158 -0.31112 C 0.32309 -0.31551 0.33073 -0.31899 0.33802 -0.32338 C 0.34792 -0.32963 0.35642 -0.33866 0.36667 -0.34445 C 0.3717 -0.35116 0.37708 -0.35255 0.38333 -0.35672 C 0.39201 -0.36251 0.40035 -0.3676 0.40937 -0.37269 C 0.43212 -0.38565 0.45503 -0.397 0.47778 -0.40973 C 0.48038 -0.41112 0.48264 -0.41366 0.48524 -0.41482 C 0.50243 -0.42246 0.4868 -0.41227 0.50191 -0.41968 C 0.5191 -0.42825 0.53663 -0.43403 0.55382 -0.4419 C 0.56163 -0.44538 0.5618 -0.44399 0.57049 -0.44676 C 0.5849 -0.45139 0.59878 -0.45834 0.61302 -0.46413 C 0.61476 -0.46482 0.62882 -0.47038 0.62882 -0.47038 C 0.63368 -0.47107 0.64358 -0.47269 0.64358 -0.47269 C 0.65243 -0.47616 0.66128 -0.47963 0.67049 -0.48149 C 0.67917 -0.48334 0.68507 -0.48241 0.69444 -0.48519 C 0.72049 -0.49329 0.74687 -0.49607 0.77326 -0.50116 C 0.79392 -0.5051 0.81458 -0.50973 0.83524 -0.51343 C 0.83767 -0.51436 0.84028 -0.51551 0.84271 -0.51598 C 0.84705 -0.5169 0.85555 -0.51852 0.85555 -0.51852 C 0.87951 -0.52848 0.90642 -0.53704 0.9316 -0.53704 E">
                                      <p:cBhvr>
                                        <p:cTn id="58" dur="5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2"/>
          <p:cNvGrpSpPr/>
          <p:nvPr/>
        </p:nvGrpSpPr>
        <p:grpSpPr>
          <a:xfrm>
            <a:off x="3924360" y="1341360"/>
            <a:ext cx="2197080" cy="2305080"/>
            <a:chOff x="3924360" y="1341360"/>
            <a:chExt cx="2197080" cy="2305080"/>
          </a:xfrm>
        </p:grpSpPr>
        <p:pic>
          <p:nvPicPr>
            <p:cNvPr id="80" name="Picture 3" descr="звезда1"/>
            <p:cNvPicPr/>
            <p:nvPr/>
          </p:nvPicPr>
          <p:blipFill>
            <a:blip r:embed="rId2"/>
            <a:stretch/>
          </p:blipFill>
          <p:spPr>
            <a:xfrm>
              <a:off x="3924360" y="1341360"/>
              <a:ext cx="219708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WordArt 4"/>
            <p:cNvSpPr txBox="1"/>
            <p:nvPr/>
          </p:nvSpPr>
          <p:spPr>
            <a:xfrm>
              <a:off x="4643640" y="2205000"/>
              <a:ext cx="514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4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2" name="Group 5"/>
          <p:cNvGrpSpPr/>
          <p:nvPr/>
        </p:nvGrpSpPr>
        <p:grpSpPr>
          <a:xfrm>
            <a:off x="971640" y="1125360"/>
            <a:ext cx="2197080" cy="2305080"/>
            <a:chOff x="971640" y="1125360"/>
            <a:chExt cx="2197080" cy="2305080"/>
          </a:xfrm>
        </p:grpSpPr>
        <p:pic>
          <p:nvPicPr>
            <p:cNvPr id="83" name="Picture 6" descr="звезда1"/>
            <p:cNvPicPr/>
            <p:nvPr/>
          </p:nvPicPr>
          <p:blipFill>
            <a:blip r:embed="rId3"/>
            <a:stretch/>
          </p:blipFill>
          <p:spPr>
            <a:xfrm>
              <a:off x="971640" y="1125360"/>
              <a:ext cx="219708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WordArt 7"/>
            <p:cNvSpPr txBox="1"/>
            <p:nvPr/>
          </p:nvSpPr>
          <p:spPr>
            <a:xfrm>
              <a:off x="1690920" y="1989000"/>
              <a:ext cx="514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4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6372360" y="3573360"/>
            <a:ext cx="2197080" cy="2305080"/>
            <a:chOff x="6372360" y="3573360"/>
            <a:chExt cx="2197080" cy="2305080"/>
          </a:xfrm>
        </p:grpSpPr>
        <p:pic>
          <p:nvPicPr>
            <p:cNvPr id="86" name="Picture 9" descr="звезда1"/>
            <p:cNvPicPr/>
            <p:nvPr/>
          </p:nvPicPr>
          <p:blipFill>
            <a:blip r:embed="rId4"/>
            <a:stretch/>
          </p:blipFill>
          <p:spPr>
            <a:xfrm>
              <a:off x="6372360" y="3573360"/>
              <a:ext cx="219708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WordArt 10"/>
            <p:cNvSpPr txBox="1"/>
            <p:nvPr/>
          </p:nvSpPr>
          <p:spPr>
            <a:xfrm>
              <a:off x="7091640" y="4437000"/>
              <a:ext cx="514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5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-2052720" y="6093000"/>
            <a:ext cx="1882800" cy="1909440"/>
            <a:chOff x="-2052720" y="6093000"/>
            <a:chExt cx="1882800" cy="1909440"/>
          </a:xfrm>
        </p:grpSpPr>
        <p:pic>
          <p:nvPicPr>
            <p:cNvPr id="89" name="Picture 12" descr="ракета1"/>
            <p:cNvPicPr/>
            <p:nvPr/>
          </p:nvPicPr>
          <p:blipFill>
            <a:blip r:embed="rId5"/>
            <a:stretch/>
          </p:blipFill>
          <p:spPr>
            <a:xfrm>
              <a:off x="-2052720" y="6093000"/>
              <a:ext cx="1882800" cy="19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WordArt 13"/>
            <p:cNvSpPr txBox="1"/>
            <p:nvPr/>
          </p:nvSpPr>
          <p:spPr>
            <a:xfrm rot="18774000">
              <a:off x="-1444320" y="6689880"/>
              <a:ext cx="923760" cy="45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"/>
                </a:rPr>
                <a:t>67-2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613800" y="3960720"/>
            <a:ext cx="2878560" cy="2945880"/>
            <a:chOff x="613800" y="3960720"/>
            <a:chExt cx="2878560" cy="2945880"/>
          </a:xfrm>
        </p:grpSpPr>
        <p:grpSp>
          <p:nvGrpSpPr>
            <p:cNvPr id="92" name="Group 15"/>
            <p:cNvGrpSpPr/>
            <p:nvPr/>
          </p:nvGrpSpPr>
          <p:grpSpPr>
            <a:xfrm>
              <a:off x="613800" y="3960720"/>
              <a:ext cx="2878560" cy="2945880"/>
              <a:chOff x="613800" y="3960720"/>
              <a:chExt cx="2878560" cy="2945880"/>
            </a:xfrm>
          </p:grpSpPr>
          <p:pic>
            <p:nvPicPr>
              <p:cNvPr id="93" name="Picture 16" descr="пламя"/>
              <p:cNvPicPr/>
              <p:nvPr/>
            </p:nvPicPr>
            <p:blipFill>
              <a:blip r:embed="rId6"/>
              <a:stretch/>
            </p:blipFill>
            <p:spPr>
              <a:xfrm rot="13354200">
                <a:off x="1104840" y="4974840"/>
                <a:ext cx="992160" cy="183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17" descr="ракета1"/>
              <p:cNvPicPr/>
              <p:nvPr/>
            </p:nvPicPr>
            <p:blipFill>
              <a:blip r:embed="rId7"/>
              <a:stretch/>
            </p:blipFill>
            <p:spPr>
              <a:xfrm>
                <a:off x="1609560" y="3960720"/>
                <a:ext cx="1882800" cy="1909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5" name="WordArt 18"/>
            <p:cNvSpPr txBox="1"/>
            <p:nvPr/>
          </p:nvSpPr>
          <p:spPr>
            <a:xfrm rot="18774000">
              <a:off x="2236680" y="4557600"/>
              <a:ext cx="923760" cy="45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"/>
                </a:rPr>
                <a:t>67-2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96" name="Picture 19" descr="rocky1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468360" y="3716280"/>
            <a:ext cx="3816360" cy="288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2.22222E-006 C 0.00747 -0.0132 0.0191 -0.02176 0.02778 -0.03333 C 0.03369 -0.04121 0.03768 -0.04746 0.04532 -0.05301 C 0.05244 -0.0581 0.06042 -0.06134 0.06754 -0.06667 C 0.07778 -0.07408 0.0856 -0.08588 0.09532 -0.09375 C 0.09931 -0.09699 0.10122 -0.10046 0.10556 -0.10232 C 0.10834 -0.10602 0.11025 -0.1081 0.1139 -0.10972 C 0.11546 -0.11134 0.11685 -0.11343 0.11858 -0.11482 C 0.11945 -0.11551 0.12049 -0.11528 0.12136 -0.11597 C 0.13108 -0.12477 0.14028 -0.13542 0.15087 -0.14306 C 0.15712 -0.14769 0.16216 -0.15486 0.16945 -0.15671 C 0.17188 -0.1588 0.17414 -0.16158 0.17692 -0.16296 C 0.17935 -0.16412 0.18421 -0.16528 0.18421 -0.16528 C 0.19133 -0.17222 0.20018 -0.1757 0.20834 -0.18009 C 0.22587 -0.18958 0.24254 -0.20093 0.25903 -0.21227 C 0.26737 -0.21783 0.2757 -0.22523 0.28334 -0.23195 C 0.29185 -0.23958 0.27969 -0.23171 0.28976 -0.23935 C 0.29775 -0.24537 0.30504 -0.25162 0.31303 -0.25787 C 0.31442 -0.25903 0.31528 -0.26134 0.31667 -0.26296 C 0.32153 -0.26852 0.32726 -0.27477 0.33334 -0.27778 C 0.33907 -0.28357 0.34567 -0.29144 0.35278 -0.29375 C 0.35903 -0.30208 0.36633 -0.30394 0.37501 -0.30602 C 0.38039 -0.31088 0.3889 -0.31343 0.39532 -0.31482 C 0.3981 -0.31551 0.40365 -0.31597 0.40365 -0.31597 E">
                                      <p:cBhvr>
                                        <p:cTn id="88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8.14815E-006 C 0.00764 -0.00649 0.01406 -0.01598 0.02049 -0.02454 C 0.02326 -0.02825 0.025 -0.03334 0.02778 -0.03704 C 0.03264 -0.05394 0.04549 -0.06876 0.05555 -0.0801 C 0.06389 -0.08936 0.07257 -0.09908 0.0816 -0.10741 C 0.09097 -0.11598 0.10174 -0.12223 0.11111 -0.13079 C 0.12153 -0.14005 0.13229 -0.14792 0.14271 -0.15672 C 0.15382 -0.16598 0.16458 -0.17825 0.175 -0.18889 C 0.18055 -0.19445 0.18576 -0.20348 0.1908 -0.20857 C 0.19219 -0.20996 0.1941 -0.20996 0.19549 -0.21112 C 0.20035 -0.21482 0.19826 -0.21505 0.20278 -0.21968 C 0.20712 -0.22408 0.21233 -0.22639 0.21667 -0.23079 C 0.22639 -0.24075 0.23663 -0.25186 0.24722 -0.26042 C 0.2599 -0.27061 0.24774 -0.26042 0.26024 -0.26899 C 0.27101 -0.27639 0.28038 -0.28519 0.29167 -0.29121 C 0.30035 -0.29584 0.30729 -0.30602 0.3158 -0.31112 C 0.32309 -0.31551 0.33073 -0.31899 0.33802 -0.32338 C 0.34792 -0.32963 0.35642 -0.33866 0.36667 -0.34445 C 0.3717 -0.35116 0.37708 -0.35255 0.38333 -0.35672 C 0.39201 -0.36251 0.40035 -0.3676 0.40937 -0.37269 C 0.43212 -0.38565 0.45503 -0.397 0.47778 -0.40973 C 0.48038 -0.41112 0.48264 -0.41366 0.48524 -0.41482 C 0.50243 -0.42246 0.4868 -0.41227 0.50191 -0.41968 C 0.5191 -0.42825 0.53663 -0.43403 0.55382 -0.4419 C 0.56163 -0.44538 0.5618 -0.44399 0.57049 -0.44676 C 0.5849 -0.45139 0.59878 -0.45834 0.61302 -0.46413 C 0.61476 -0.46482 0.62882 -0.47038 0.62882 -0.47038 C 0.63368 -0.47107 0.64358 -0.47269 0.64358 -0.47269 C 0.65243 -0.47616 0.66128 -0.47963 0.67049 -0.48149 C 0.67917 -0.48334 0.68507 -0.48241 0.69444 -0.48519 C 0.72049 -0.49329 0.74687 -0.49607 0.77326 -0.50116 C 0.79392 -0.5051 0.81458 -0.50973 0.83524 -0.51343 C 0.83767 -0.51436 0.84028 -0.51551 0.84271 -0.51598 C 0.84705 -0.5169 0.85555 -0.51852 0.85555 -0.51852 C 0.87951 -0.52848 0.90642 -0.53704 0.9316 -0.53704 E">
                                      <p:cBhvr>
                                        <p:cTn id="99" dur="5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6227640" y="4149720"/>
            <a:ext cx="2197080" cy="2305080"/>
            <a:chOff x="6227640" y="4149720"/>
            <a:chExt cx="2197080" cy="2305080"/>
          </a:xfrm>
        </p:grpSpPr>
        <p:pic>
          <p:nvPicPr>
            <p:cNvPr id="98" name="Picture 3" descr="звезда1"/>
            <p:cNvPicPr/>
            <p:nvPr/>
          </p:nvPicPr>
          <p:blipFill>
            <a:blip r:embed="rId2"/>
            <a:stretch/>
          </p:blipFill>
          <p:spPr>
            <a:xfrm>
              <a:off x="6227640" y="4149720"/>
              <a:ext cx="219708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WordArt 4"/>
            <p:cNvSpPr txBox="1"/>
            <p:nvPr/>
          </p:nvSpPr>
          <p:spPr>
            <a:xfrm>
              <a:off x="6946920" y="5013360"/>
              <a:ext cx="514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0" name="Group 5"/>
          <p:cNvGrpSpPr/>
          <p:nvPr/>
        </p:nvGrpSpPr>
        <p:grpSpPr>
          <a:xfrm>
            <a:off x="4067280" y="1268280"/>
            <a:ext cx="2197080" cy="2305080"/>
            <a:chOff x="4067280" y="1268280"/>
            <a:chExt cx="2197080" cy="2305080"/>
          </a:xfrm>
        </p:grpSpPr>
        <p:pic>
          <p:nvPicPr>
            <p:cNvPr id="101" name="Picture 6" descr="звезда1"/>
            <p:cNvPicPr/>
            <p:nvPr/>
          </p:nvPicPr>
          <p:blipFill>
            <a:blip r:embed="rId3"/>
            <a:stretch/>
          </p:blipFill>
          <p:spPr>
            <a:xfrm>
              <a:off x="4067280" y="1268280"/>
              <a:ext cx="219708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WordArt 7"/>
            <p:cNvSpPr txBox="1"/>
            <p:nvPr/>
          </p:nvSpPr>
          <p:spPr>
            <a:xfrm>
              <a:off x="4786560" y="2131920"/>
              <a:ext cx="514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3" name="Group 8"/>
          <p:cNvGrpSpPr/>
          <p:nvPr/>
        </p:nvGrpSpPr>
        <p:grpSpPr>
          <a:xfrm>
            <a:off x="684360" y="1125360"/>
            <a:ext cx="2197080" cy="2305080"/>
            <a:chOff x="684360" y="1125360"/>
            <a:chExt cx="2197080" cy="2305080"/>
          </a:xfrm>
        </p:grpSpPr>
        <p:pic>
          <p:nvPicPr>
            <p:cNvPr id="104" name="Picture 9" descr="звезда1"/>
            <p:cNvPicPr/>
            <p:nvPr/>
          </p:nvPicPr>
          <p:blipFill>
            <a:blip r:embed="rId4"/>
            <a:stretch/>
          </p:blipFill>
          <p:spPr>
            <a:xfrm>
              <a:off x="684360" y="1125360"/>
              <a:ext cx="219708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WordArt 10"/>
            <p:cNvSpPr txBox="1"/>
            <p:nvPr/>
          </p:nvSpPr>
          <p:spPr>
            <a:xfrm>
              <a:off x="1403640" y="1989000"/>
              <a:ext cx="514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6" name="Group 11"/>
          <p:cNvGrpSpPr/>
          <p:nvPr/>
        </p:nvGrpSpPr>
        <p:grpSpPr>
          <a:xfrm>
            <a:off x="-2052720" y="6093000"/>
            <a:ext cx="1882800" cy="1909440"/>
            <a:chOff x="-2052720" y="6093000"/>
            <a:chExt cx="1882800" cy="1909440"/>
          </a:xfrm>
        </p:grpSpPr>
        <p:pic>
          <p:nvPicPr>
            <p:cNvPr id="107" name="Picture 12" descr="ракета1"/>
            <p:cNvPicPr/>
            <p:nvPr/>
          </p:nvPicPr>
          <p:blipFill>
            <a:blip r:embed="rId5"/>
            <a:stretch/>
          </p:blipFill>
          <p:spPr>
            <a:xfrm>
              <a:off x="-2052720" y="6093000"/>
              <a:ext cx="1882800" cy="19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WordArt 13"/>
            <p:cNvSpPr txBox="1"/>
            <p:nvPr/>
          </p:nvSpPr>
          <p:spPr>
            <a:xfrm rot="18774000">
              <a:off x="-1444320" y="6689880"/>
              <a:ext cx="923760" cy="45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"/>
                </a:rPr>
                <a:t>95-9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9" name="Group 14"/>
          <p:cNvGrpSpPr/>
          <p:nvPr/>
        </p:nvGrpSpPr>
        <p:grpSpPr>
          <a:xfrm>
            <a:off x="613800" y="3960720"/>
            <a:ext cx="2878560" cy="2945880"/>
            <a:chOff x="613800" y="3960720"/>
            <a:chExt cx="2878560" cy="2945880"/>
          </a:xfrm>
        </p:grpSpPr>
        <p:grpSp>
          <p:nvGrpSpPr>
            <p:cNvPr id="110" name="Group 15"/>
            <p:cNvGrpSpPr/>
            <p:nvPr/>
          </p:nvGrpSpPr>
          <p:grpSpPr>
            <a:xfrm>
              <a:off x="613800" y="3960720"/>
              <a:ext cx="2878560" cy="2945880"/>
              <a:chOff x="613800" y="3960720"/>
              <a:chExt cx="2878560" cy="2945880"/>
            </a:xfrm>
          </p:grpSpPr>
          <p:pic>
            <p:nvPicPr>
              <p:cNvPr id="111" name="Picture 16" descr="пламя"/>
              <p:cNvPicPr/>
              <p:nvPr/>
            </p:nvPicPr>
            <p:blipFill>
              <a:blip r:embed="rId6"/>
              <a:stretch/>
            </p:blipFill>
            <p:spPr>
              <a:xfrm rot="13354200">
                <a:off x="1104840" y="4974840"/>
                <a:ext cx="992160" cy="183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Picture 17" descr="ракета1"/>
              <p:cNvPicPr/>
              <p:nvPr/>
            </p:nvPicPr>
            <p:blipFill>
              <a:blip r:embed="rId7"/>
              <a:stretch/>
            </p:blipFill>
            <p:spPr>
              <a:xfrm>
                <a:off x="1609560" y="3960720"/>
                <a:ext cx="1882800" cy="1909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3" name="WordArt 18"/>
            <p:cNvSpPr txBox="1"/>
            <p:nvPr/>
          </p:nvSpPr>
          <p:spPr>
            <a:xfrm rot="18774000">
              <a:off x="2236680" y="4557600"/>
              <a:ext cx="923760" cy="45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"/>
                </a:rPr>
                <a:t>95-9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14" name="Picture 19" descr="rocky1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468360" y="3716280"/>
            <a:ext cx="3816360" cy="288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2.22222E-006 C 0.00747 -0.0132 0.0191 -0.02176 0.02778 -0.03333 C 0.03369 -0.04121 0.03768 -0.04746 0.04532 -0.05301 C 0.05244 -0.0581 0.06042 -0.06134 0.06754 -0.06667 C 0.07778 -0.07408 0.0856 -0.08588 0.09532 -0.09375 C 0.09931 -0.09699 0.10122 -0.10046 0.10556 -0.10232 C 0.10834 -0.10602 0.11025 -0.1081 0.1139 -0.10972 C 0.11546 -0.11134 0.11685 -0.11343 0.11858 -0.11482 C 0.11945 -0.11551 0.12049 -0.11528 0.12136 -0.11597 C 0.13108 -0.12477 0.14028 -0.13542 0.15087 -0.14306 C 0.15712 -0.14769 0.16216 -0.15486 0.16945 -0.15671 C 0.17188 -0.1588 0.17414 -0.16158 0.17692 -0.16296 C 0.17935 -0.16412 0.18421 -0.16528 0.18421 -0.16528 C 0.19133 -0.17222 0.20018 -0.1757 0.20834 -0.18009 C 0.22587 -0.18958 0.24254 -0.20093 0.25903 -0.21227 C 0.26737 -0.21783 0.2757 -0.22523 0.28334 -0.23195 C 0.29185 -0.23958 0.27969 -0.23171 0.28976 -0.23935 C 0.29775 -0.24537 0.30504 -0.25162 0.31303 -0.25787 C 0.31442 -0.25903 0.31528 -0.26134 0.31667 -0.26296 C 0.32153 -0.26852 0.32726 -0.27477 0.33334 -0.27778 C 0.33907 -0.28357 0.34567 -0.29144 0.35278 -0.29375 C 0.35903 -0.30208 0.36633 -0.30394 0.37501 -0.30602 C 0.38039 -0.31088 0.3889 -0.31343 0.39532 -0.31482 C 0.3981 -0.31551 0.40365 -0.31597 0.40365 -0.31597 E">
                                      <p:cBhvr>
                                        <p:cTn id="129" dur="3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8.14815E-006 C 0.00764 -0.00649 0.01406 -0.01598 0.02049 -0.02454 C 0.02326 -0.02825 0.025 -0.03334 0.02778 -0.03704 C 0.03264 -0.05394 0.04549 -0.06876 0.05555 -0.0801 C 0.06389 -0.08936 0.07257 -0.09908 0.0816 -0.10741 C 0.09097 -0.11598 0.10174 -0.12223 0.11111 -0.13079 C 0.12153 -0.14005 0.13229 -0.14792 0.14271 -0.15672 C 0.15382 -0.16598 0.16458 -0.17825 0.175 -0.18889 C 0.18055 -0.19445 0.18576 -0.20348 0.1908 -0.20857 C 0.19219 -0.20996 0.1941 -0.20996 0.19549 -0.21112 C 0.20035 -0.21482 0.19826 -0.21505 0.20278 -0.21968 C 0.20712 -0.22408 0.21233 -0.22639 0.21667 -0.23079 C 0.22639 -0.24075 0.23663 -0.25186 0.24722 -0.26042 C 0.2599 -0.27061 0.24774 -0.26042 0.26024 -0.26899 C 0.27101 -0.27639 0.28038 -0.28519 0.29167 -0.29121 C 0.30035 -0.29584 0.30729 -0.30602 0.3158 -0.31112 C 0.32309 -0.31551 0.33073 -0.31899 0.33802 -0.32338 C 0.34792 -0.32963 0.35642 -0.33866 0.36667 -0.34445 C 0.3717 -0.35116 0.37708 -0.35255 0.38333 -0.35672 C 0.39201 -0.36251 0.40035 -0.3676 0.40937 -0.37269 C 0.43212 -0.38565 0.45503 -0.397 0.47778 -0.40973 C 0.48038 -0.41112 0.48264 -0.41366 0.48524 -0.41482 C 0.50243 -0.42246 0.4868 -0.41227 0.50191 -0.41968 C 0.5191 -0.42825 0.53663 -0.43403 0.55382 -0.4419 C 0.56163 -0.44538 0.5618 -0.44399 0.57049 -0.44676 C 0.5849 -0.45139 0.59878 -0.45834 0.61302 -0.46413 C 0.61476 -0.46482 0.62882 -0.47038 0.62882 -0.47038 C 0.63368 -0.47107 0.64358 -0.47269 0.64358 -0.47269 C 0.65243 -0.47616 0.66128 -0.47963 0.67049 -0.48149 C 0.67917 -0.48334 0.68507 -0.48241 0.69444 -0.48519 C 0.72049 -0.49329 0.74687 -0.49607 0.77326 -0.50116 C 0.79392 -0.5051 0.81458 -0.50973 0.83524 -0.51343 C 0.83767 -0.51436 0.84028 -0.51551 0.84271 -0.51598 C 0.84705 -0.5169 0.85555 -0.51852 0.85555 -0.51852 C 0.87951 -0.52848 0.90642 -0.53704 0.9316 -0.53704 E">
                                      <p:cBhvr>
                                        <p:cTn id="140" dur="5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57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"/>
          <p:cNvGrpSpPr/>
          <p:nvPr/>
        </p:nvGrpSpPr>
        <p:grpSpPr>
          <a:xfrm>
            <a:off x="900000" y="549360"/>
            <a:ext cx="2197080" cy="2305080"/>
            <a:chOff x="900000" y="549360"/>
            <a:chExt cx="2197080" cy="2305080"/>
          </a:xfrm>
        </p:grpSpPr>
        <p:pic>
          <p:nvPicPr>
            <p:cNvPr id="116" name="Picture 3" descr="звезда1"/>
            <p:cNvPicPr/>
            <p:nvPr/>
          </p:nvPicPr>
          <p:blipFill>
            <a:blip r:embed="rId2"/>
            <a:stretch/>
          </p:blipFill>
          <p:spPr>
            <a:xfrm>
              <a:off x="900000" y="549360"/>
              <a:ext cx="219708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WordArt 4"/>
            <p:cNvSpPr txBox="1"/>
            <p:nvPr/>
          </p:nvSpPr>
          <p:spPr>
            <a:xfrm>
              <a:off x="1619280" y="1413000"/>
              <a:ext cx="514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8" name="Group 5"/>
          <p:cNvGrpSpPr/>
          <p:nvPr/>
        </p:nvGrpSpPr>
        <p:grpSpPr>
          <a:xfrm>
            <a:off x="4067280" y="1268280"/>
            <a:ext cx="2197080" cy="2305080"/>
            <a:chOff x="4067280" y="1268280"/>
            <a:chExt cx="2197080" cy="2305080"/>
          </a:xfrm>
        </p:grpSpPr>
        <p:pic>
          <p:nvPicPr>
            <p:cNvPr id="119" name="Picture 6" descr="звезда1"/>
            <p:cNvPicPr/>
            <p:nvPr/>
          </p:nvPicPr>
          <p:blipFill>
            <a:blip r:embed="rId3"/>
            <a:stretch/>
          </p:blipFill>
          <p:spPr>
            <a:xfrm>
              <a:off x="4067280" y="1268280"/>
              <a:ext cx="219708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WordArt 7"/>
            <p:cNvSpPr txBox="1"/>
            <p:nvPr/>
          </p:nvSpPr>
          <p:spPr>
            <a:xfrm>
              <a:off x="4786560" y="2131920"/>
              <a:ext cx="514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1" name="Group 8"/>
          <p:cNvGrpSpPr/>
          <p:nvPr/>
        </p:nvGrpSpPr>
        <p:grpSpPr>
          <a:xfrm>
            <a:off x="6372360" y="3573360"/>
            <a:ext cx="2197080" cy="2305080"/>
            <a:chOff x="6372360" y="3573360"/>
            <a:chExt cx="2197080" cy="2305080"/>
          </a:xfrm>
        </p:grpSpPr>
        <p:pic>
          <p:nvPicPr>
            <p:cNvPr id="122" name="Picture 9" descr="звезда1"/>
            <p:cNvPicPr/>
            <p:nvPr/>
          </p:nvPicPr>
          <p:blipFill>
            <a:blip r:embed="rId4"/>
            <a:stretch/>
          </p:blipFill>
          <p:spPr>
            <a:xfrm>
              <a:off x="6372360" y="3573360"/>
              <a:ext cx="219708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WordArt 10"/>
            <p:cNvSpPr txBox="1"/>
            <p:nvPr/>
          </p:nvSpPr>
          <p:spPr>
            <a:xfrm>
              <a:off x="7091640" y="4437000"/>
              <a:ext cx="514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1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4" name="Group 11"/>
          <p:cNvGrpSpPr/>
          <p:nvPr/>
        </p:nvGrpSpPr>
        <p:grpSpPr>
          <a:xfrm>
            <a:off x="-2052720" y="6093000"/>
            <a:ext cx="1882800" cy="1909440"/>
            <a:chOff x="-2052720" y="6093000"/>
            <a:chExt cx="1882800" cy="1909440"/>
          </a:xfrm>
        </p:grpSpPr>
        <p:pic>
          <p:nvPicPr>
            <p:cNvPr id="125" name="Picture 12" descr="ракета1"/>
            <p:cNvPicPr/>
            <p:nvPr/>
          </p:nvPicPr>
          <p:blipFill>
            <a:blip r:embed="rId5"/>
            <a:stretch/>
          </p:blipFill>
          <p:spPr>
            <a:xfrm>
              <a:off x="-2052720" y="6093000"/>
              <a:ext cx="1882800" cy="19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WordArt 13"/>
            <p:cNvSpPr txBox="1"/>
            <p:nvPr/>
          </p:nvSpPr>
          <p:spPr>
            <a:xfrm rot="18774000">
              <a:off x="-1444320" y="6689880"/>
              <a:ext cx="923760" cy="45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"/>
                </a:rPr>
                <a:t>46-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7" name="Group 14"/>
          <p:cNvGrpSpPr/>
          <p:nvPr/>
        </p:nvGrpSpPr>
        <p:grpSpPr>
          <a:xfrm>
            <a:off x="613800" y="3960720"/>
            <a:ext cx="2878560" cy="2945880"/>
            <a:chOff x="613800" y="3960720"/>
            <a:chExt cx="2878560" cy="2945880"/>
          </a:xfrm>
        </p:grpSpPr>
        <p:grpSp>
          <p:nvGrpSpPr>
            <p:cNvPr id="128" name="Group 15"/>
            <p:cNvGrpSpPr/>
            <p:nvPr/>
          </p:nvGrpSpPr>
          <p:grpSpPr>
            <a:xfrm>
              <a:off x="613800" y="3960720"/>
              <a:ext cx="2878560" cy="2945880"/>
              <a:chOff x="613800" y="3960720"/>
              <a:chExt cx="2878560" cy="2945880"/>
            </a:xfrm>
          </p:grpSpPr>
          <p:pic>
            <p:nvPicPr>
              <p:cNvPr id="129" name="Picture 16" descr="пламя"/>
              <p:cNvPicPr/>
              <p:nvPr/>
            </p:nvPicPr>
            <p:blipFill>
              <a:blip r:embed="rId6"/>
              <a:stretch/>
            </p:blipFill>
            <p:spPr>
              <a:xfrm rot="13354200">
                <a:off x="1104840" y="4974840"/>
                <a:ext cx="992160" cy="183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Picture 17" descr="ракета1"/>
              <p:cNvPicPr/>
              <p:nvPr/>
            </p:nvPicPr>
            <p:blipFill>
              <a:blip r:embed="rId7"/>
              <a:stretch/>
            </p:blipFill>
            <p:spPr>
              <a:xfrm>
                <a:off x="1609560" y="3960720"/>
                <a:ext cx="1882800" cy="1909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1" name="WordArt 18"/>
            <p:cNvSpPr txBox="1"/>
            <p:nvPr/>
          </p:nvSpPr>
          <p:spPr>
            <a:xfrm rot="18774000">
              <a:off x="2236680" y="4557600"/>
              <a:ext cx="923760" cy="45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"/>
                </a:rPr>
                <a:t>46-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32" name="Picture 19" descr="rocky1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468360" y="3716280"/>
            <a:ext cx="3816360" cy="288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2.22222E-006 C 0.00747 -0.0132 0.0191 -0.02176 0.02778 -0.03333 C 0.03369 -0.04121 0.03768 -0.04746 0.04532 -0.05301 C 0.05244 -0.0581 0.06042 -0.06134 0.06754 -0.06667 C 0.07778 -0.07408 0.0856 -0.08588 0.09532 -0.09375 C 0.09931 -0.09699 0.10122 -0.10046 0.10556 -0.10232 C 0.10834 -0.10602 0.11025 -0.1081 0.1139 -0.10972 C 0.11546 -0.11134 0.11685 -0.11343 0.11858 -0.11482 C 0.11945 -0.11551 0.12049 -0.11528 0.12136 -0.11597 C 0.13108 -0.12477 0.14028 -0.13542 0.15087 -0.14306 C 0.15712 -0.14769 0.16216 -0.15486 0.16945 -0.15671 C 0.17188 -0.1588 0.17414 -0.16158 0.17692 -0.16296 C 0.17935 -0.16412 0.18421 -0.16528 0.18421 -0.16528 C 0.19133 -0.17222 0.20018 -0.1757 0.20834 -0.18009 C 0.22587 -0.18958 0.24254 -0.20093 0.25903 -0.21227 C 0.26737 -0.21783 0.2757 -0.22523 0.28334 -0.23195 C 0.29185 -0.23958 0.27969 -0.23171 0.28976 -0.23935 C 0.29775 -0.24537 0.30504 -0.25162 0.31303 -0.25787 C 0.31442 -0.25903 0.31528 -0.26134 0.31667 -0.26296 C 0.32153 -0.26852 0.32726 -0.27477 0.33334 -0.27778 C 0.33907 -0.28357 0.34567 -0.29144 0.35278 -0.29375 C 0.35903 -0.30208 0.36633 -0.30394 0.37501 -0.30602 C 0.38039 -0.31088 0.3889 -0.31343 0.39532 -0.31482 C 0.3981 -0.31551 0.40365 -0.31597 0.40365 -0.31597 E">
                                      <p:cBhvr>
                                        <p:cTn id="170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8.14815E-006 C 0.00764 -0.00649 0.01406 -0.01598 0.02049 -0.02454 C 0.02326 -0.02825 0.025 -0.03334 0.02778 -0.03704 C 0.03264 -0.05394 0.04549 -0.06876 0.05555 -0.0801 C 0.06389 -0.08936 0.07257 -0.09908 0.0816 -0.10741 C 0.09097 -0.11598 0.10174 -0.12223 0.11111 -0.13079 C 0.12153 -0.14005 0.13229 -0.14792 0.14271 -0.15672 C 0.15382 -0.16598 0.16458 -0.17825 0.175 -0.18889 C 0.18055 -0.19445 0.18576 -0.20348 0.1908 -0.20857 C 0.19219 -0.20996 0.1941 -0.20996 0.19549 -0.21112 C 0.20035 -0.21482 0.19826 -0.21505 0.20278 -0.21968 C 0.20712 -0.22408 0.21233 -0.22639 0.21667 -0.23079 C 0.22639 -0.24075 0.23663 -0.25186 0.24722 -0.26042 C 0.2599 -0.27061 0.24774 -0.26042 0.26024 -0.26899 C 0.27101 -0.27639 0.28038 -0.28519 0.29167 -0.29121 C 0.30035 -0.29584 0.30729 -0.30602 0.3158 -0.31112 C 0.32309 -0.31551 0.33073 -0.31899 0.33802 -0.32338 C 0.34792 -0.32963 0.35642 -0.33866 0.36667 -0.34445 C 0.3717 -0.35116 0.37708 -0.35255 0.38333 -0.35672 C 0.39201 -0.36251 0.40035 -0.3676 0.40937 -0.37269 C 0.43212 -0.38565 0.45503 -0.397 0.47778 -0.40973 C 0.48038 -0.41112 0.48264 -0.41366 0.48524 -0.41482 C 0.50243 -0.42246 0.4868 -0.41227 0.50191 -0.41968 C 0.5191 -0.42825 0.53663 -0.43403 0.55382 -0.4419 C 0.56163 -0.44538 0.5618 -0.44399 0.57049 -0.44676 C 0.5849 -0.45139 0.59878 -0.45834 0.61302 -0.46413 C 0.61476 -0.46482 0.62882 -0.47038 0.62882 -0.47038 C 0.63368 -0.47107 0.64358 -0.47269 0.64358 -0.47269 C 0.65243 -0.47616 0.66128 -0.47963 0.67049 -0.48149 C 0.67917 -0.48334 0.68507 -0.48241 0.69444 -0.48519 C 0.72049 -0.49329 0.74687 -0.49607 0.77326 -0.50116 C 0.79392 -0.5051 0.81458 -0.50973 0.83524 -0.51343 C 0.83767 -0.51436 0.84028 -0.51551 0.84271 -0.51598 C 0.84705 -0.5169 0.85555 -0.51852 0.85555 -0.51852 C 0.87951 -0.52848 0.90642 -0.53704 0.9316 -0.53704 E">
                                      <p:cBhvr>
                                        <p:cTn id="181" dur="5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98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3995640" y="1557360"/>
            <a:ext cx="2197080" cy="2305080"/>
            <a:chOff x="3995640" y="1557360"/>
            <a:chExt cx="2197080" cy="2305080"/>
          </a:xfrm>
        </p:grpSpPr>
        <p:pic>
          <p:nvPicPr>
            <p:cNvPr id="134" name="Picture 3" descr="звезда1"/>
            <p:cNvPicPr/>
            <p:nvPr/>
          </p:nvPicPr>
          <p:blipFill>
            <a:blip r:embed="rId2"/>
            <a:stretch/>
          </p:blipFill>
          <p:spPr>
            <a:xfrm>
              <a:off x="3995640" y="1557360"/>
              <a:ext cx="219708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WordArt 4"/>
            <p:cNvSpPr txBox="1"/>
            <p:nvPr/>
          </p:nvSpPr>
          <p:spPr>
            <a:xfrm>
              <a:off x="4714920" y="2421000"/>
              <a:ext cx="514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7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36" name="Group 5"/>
          <p:cNvGrpSpPr/>
          <p:nvPr/>
        </p:nvGrpSpPr>
        <p:grpSpPr>
          <a:xfrm>
            <a:off x="684360" y="981000"/>
            <a:ext cx="2197080" cy="2305080"/>
            <a:chOff x="684360" y="981000"/>
            <a:chExt cx="2197080" cy="2305080"/>
          </a:xfrm>
        </p:grpSpPr>
        <p:pic>
          <p:nvPicPr>
            <p:cNvPr id="137" name="Picture 6" descr="звезда1"/>
            <p:cNvPicPr/>
            <p:nvPr/>
          </p:nvPicPr>
          <p:blipFill>
            <a:blip r:embed="rId3"/>
            <a:stretch/>
          </p:blipFill>
          <p:spPr>
            <a:xfrm>
              <a:off x="684360" y="981000"/>
              <a:ext cx="219708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WordArt 7"/>
            <p:cNvSpPr txBox="1"/>
            <p:nvPr/>
          </p:nvSpPr>
          <p:spPr>
            <a:xfrm>
              <a:off x="1403640" y="1844640"/>
              <a:ext cx="514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6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39" name="Group 8"/>
          <p:cNvGrpSpPr/>
          <p:nvPr/>
        </p:nvGrpSpPr>
        <p:grpSpPr>
          <a:xfrm>
            <a:off x="6372360" y="3573360"/>
            <a:ext cx="2197080" cy="2305080"/>
            <a:chOff x="6372360" y="3573360"/>
            <a:chExt cx="2197080" cy="2305080"/>
          </a:xfrm>
        </p:grpSpPr>
        <p:pic>
          <p:nvPicPr>
            <p:cNvPr id="140" name="Picture 9" descr="звезда1"/>
            <p:cNvPicPr/>
            <p:nvPr/>
          </p:nvPicPr>
          <p:blipFill>
            <a:blip r:embed="rId4"/>
            <a:stretch/>
          </p:blipFill>
          <p:spPr>
            <a:xfrm>
              <a:off x="6372360" y="3573360"/>
              <a:ext cx="219708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WordArt 10"/>
            <p:cNvSpPr txBox="1"/>
            <p:nvPr/>
          </p:nvSpPr>
          <p:spPr>
            <a:xfrm>
              <a:off x="7091640" y="4437000"/>
              <a:ext cx="514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8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2" name="Group 11"/>
          <p:cNvGrpSpPr/>
          <p:nvPr/>
        </p:nvGrpSpPr>
        <p:grpSpPr>
          <a:xfrm>
            <a:off x="-2052720" y="6093000"/>
            <a:ext cx="1882800" cy="1909440"/>
            <a:chOff x="-2052720" y="6093000"/>
            <a:chExt cx="1882800" cy="1909440"/>
          </a:xfrm>
        </p:grpSpPr>
        <p:pic>
          <p:nvPicPr>
            <p:cNvPr id="143" name="Picture 12" descr="ракета1"/>
            <p:cNvPicPr/>
            <p:nvPr/>
          </p:nvPicPr>
          <p:blipFill>
            <a:blip r:embed="rId5"/>
            <a:stretch/>
          </p:blipFill>
          <p:spPr>
            <a:xfrm>
              <a:off x="-2052720" y="6093000"/>
              <a:ext cx="1882800" cy="19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WordArt 13"/>
            <p:cNvSpPr txBox="1"/>
            <p:nvPr/>
          </p:nvSpPr>
          <p:spPr>
            <a:xfrm rot="18774000">
              <a:off x="-1444320" y="6689880"/>
              <a:ext cx="923760" cy="45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"/>
                </a:rPr>
                <a:t>50+2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5" name="Group 14"/>
          <p:cNvGrpSpPr/>
          <p:nvPr/>
        </p:nvGrpSpPr>
        <p:grpSpPr>
          <a:xfrm>
            <a:off x="613800" y="3960720"/>
            <a:ext cx="2878560" cy="2945880"/>
            <a:chOff x="613800" y="3960720"/>
            <a:chExt cx="2878560" cy="2945880"/>
          </a:xfrm>
        </p:grpSpPr>
        <p:grpSp>
          <p:nvGrpSpPr>
            <p:cNvPr id="146" name="Group 15"/>
            <p:cNvGrpSpPr/>
            <p:nvPr/>
          </p:nvGrpSpPr>
          <p:grpSpPr>
            <a:xfrm>
              <a:off x="613800" y="3960720"/>
              <a:ext cx="2878560" cy="2945880"/>
              <a:chOff x="613800" y="3960720"/>
              <a:chExt cx="2878560" cy="2945880"/>
            </a:xfrm>
          </p:grpSpPr>
          <p:pic>
            <p:nvPicPr>
              <p:cNvPr id="147" name="Picture 16" descr="пламя"/>
              <p:cNvPicPr/>
              <p:nvPr/>
            </p:nvPicPr>
            <p:blipFill>
              <a:blip r:embed="rId6"/>
              <a:stretch/>
            </p:blipFill>
            <p:spPr>
              <a:xfrm rot="13354200">
                <a:off x="1104840" y="4974840"/>
                <a:ext cx="992160" cy="183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Picture 17" descr="ракета1"/>
              <p:cNvPicPr/>
              <p:nvPr/>
            </p:nvPicPr>
            <p:blipFill>
              <a:blip r:embed="rId7"/>
              <a:stretch/>
            </p:blipFill>
            <p:spPr>
              <a:xfrm>
                <a:off x="1609560" y="3960720"/>
                <a:ext cx="1882800" cy="1909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9" name="WordArt 18"/>
            <p:cNvSpPr txBox="1"/>
            <p:nvPr/>
          </p:nvSpPr>
          <p:spPr>
            <a:xfrm rot="18774000">
              <a:off x="2236680" y="4557600"/>
              <a:ext cx="923760" cy="45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"/>
                </a:rPr>
                <a:t>50+2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50" name="Picture 19" descr="rocky1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468360" y="3716280"/>
            <a:ext cx="3816360" cy="288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2.22222E-006 C 0.00747 -0.0132 0.0191 -0.02176 0.02778 -0.03333 C 0.03369 -0.04121 0.03768 -0.04746 0.04532 -0.05301 C 0.05244 -0.0581 0.06042 -0.06134 0.06754 -0.06667 C 0.07778 -0.07408 0.0856 -0.08588 0.09532 -0.09375 C 0.09931 -0.09699 0.10122 -0.10046 0.10556 -0.10232 C 0.10834 -0.10602 0.11025 -0.1081 0.1139 -0.10972 C 0.11546 -0.11134 0.11685 -0.11343 0.11858 -0.11482 C 0.11945 -0.11551 0.12049 -0.11528 0.12136 -0.11597 C 0.13108 -0.12477 0.14028 -0.13542 0.15087 -0.14306 C 0.15712 -0.14769 0.16216 -0.15486 0.16945 -0.15671 C 0.17188 -0.1588 0.17414 -0.16158 0.17692 -0.16296 C 0.17935 -0.16412 0.18421 -0.16528 0.18421 -0.16528 C 0.19133 -0.17222 0.20018 -0.1757 0.20834 -0.18009 C 0.22587 -0.18958 0.24254 -0.20093 0.25903 -0.21227 C 0.26737 -0.21783 0.2757 -0.22523 0.28334 -0.23195 C 0.29185 -0.23958 0.27969 -0.23171 0.28976 -0.23935 C 0.29775 -0.24537 0.30504 -0.25162 0.31303 -0.25787 C 0.31442 -0.25903 0.31528 -0.26134 0.31667 -0.26296 C 0.32153 -0.26852 0.32726 -0.27477 0.33334 -0.27778 C 0.33907 -0.28357 0.34567 -0.29144 0.35278 -0.29375 C 0.35903 -0.30208 0.36633 -0.30394 0.37501 -0.30602 C 0.38039 -0.31088 0.3889 -0.31343 0.39532 -0.31482 C 0.3981 -0.31551 0.40365 -0.31597 0.40365 -0.31597 E">
                                      <p:cBhvr>
                                        <p:cTn id="211" dur="3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13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8.14815E-006 C 0.00764 -0.00649 0.01406 -0.01598 0.02049 -0.02454 C 0.02326 -0.02825 0.025 -0.03334 0.02778 -0.03704 C 0.03264 -0.05394 0.04549 -0.06876 0.05555 -0.0801 C 0.06389 -0.08936 0.07257 -0.09908 0.0816 -0.10741 C 0.09097 -0.11598 0.10174 -0.12223 0.11111 -0.13079 C 0.12153 -0.14005 0.13229 -0.14792 0.14271 -0.15672 C 0.15382 -0.16598 0.16458 -0.17825 0.175 -0.18889 C 0.18055 -0.19445 0.18576 -0.20348 0.1908 -0.20857 C 0.19219 -0.20996 0.1941 -0.20996 0.19549 -0.21112 C 0.20035 -0.21482 0.19826 -0.21505 0.20278 -0.21968 C 0.20712 -0.22408 0.21233 -0.22639 0.21667 -0.23079 C 0.22639 -0.24075 0.23663 -0.25186 0.24722 -0.26042 C 0.2599 -0.27061 0.24774 -0.26042 0.26024 -0.26899 C 0.27101 -0.27639 0.28038 -0.28519 0.29167 -0.29121 C 0.30035 -0.29584 0.30729 -0.30602 0.3158 -0.31112 C 0.32309 -0.31551 0.33073 -0.31899 0.33802 -0.32338 C 0.34792 -0.32963 0.35642 -0.33866 0.36667 -0.34445 C 0.3717 -0.35116 0.37708 -0.35255 0.38333 -0.35672 C 0.39201 -0.36251 0.40035 -0.3676 0.40937 -0.37269 C 0.43212 -0.38565 0.45503 -0.397 0.47778 -0.40973 C 0.48038 -0.41112 0.48264 -0.41366 0.48524 -0.41482 C 0.50243 -0.42246 0.4868 -0.41227 0.50191 -0.41968 C 0.5191 -0.42825 0.53663 -0.43403 0.55382 -0.4419 C 0.56163 -0.44538 0.5618 -0.44399 0.57049 -0.44676 C 0.5849 -0.45139 0.59878 -0.45834 0.61302 -0.46413 C 0.61476 -0.46482 0.62882 -0.47038 0.62882 -0.47038 C 0.63368 -0.47107 0.64358 -0.47269 0.64358 -0.47269 C 0.65243 -0.47616 0.66128 -0.47963 0.67049 -0.48149 C 0.67917 -0.48334 0.68507 -0.48241 0.69444 -0.48519 C 0.72049 -0.49329 0.74687 -0.49607 0.77326 -0.50116 C 0.79392 -0.5051 0.81458 -0.50973 0.83524 -0.51343 C 0.83767 -0.51436 0.84028 -0.51551 0.84271 -0.51598 C 0.84705 -0.5169 0.85555 -0.51852 0.85555 -0.51852 C 0.87951 -0.52848 0.90642 -0.53704 0.9316 -0.53704 E">
                                      <p:cBhvr>
                                        <p:cTn id="222" dur="5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30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39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684360" y="1197000"/>
            <a:ext cx="2197080" cy="2305080"/>
            <a:chOff x="684360" y="1197000"/>
            <a:chExt cx="2197080" cy="2305080"/>
          </a:xfrm>
        </p:grpSpPr>
        <p:pic>
          <p:nvPicPr>
            <p:cNvPr id="152" name="Picture 3" descr="звезда1"/>
            <p:cNvPicPr/>
            <p:nvPr/>
          </p:nvPicPr>
          <p:blipFill>
            <a:blip r:embed="rId2"/>
            <a:stretch/>
          </p:blipFill>
          <p:spPr>
            <a:xfrm>
              <a:off x="684360" y="1197000"/>
              <a:ext cx="219708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WordArt 4"/>
            <p:cNvSpPr txBox="1"/>
            <p:nvPr/>
          </p:nvSpPr>
          <p:spPr>
            <a:xfrm>
              <a:off x="1403640" y="2060640"/>
              <a:ext cx="514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4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54" name="Group 5"/>
          <p:cNvGrpSpPr/>
          <p:nvPr/>
        </p:nvGrpSpPr>
        <p:grpSpPr>
          <a:xfrm>
            <a:off x="4067280" y="1268280"/>
            <a:ext cx="2197080" cy="2305080"/>
            <a:chOff x="4067280" y="1268280"/>
            <a:chExt cx="2197080" cy="2305080"/>
          </a:xfrm>
        </p:grpSpPr>
        <p:pic>
          <p:nvPicPr>
            <p:cNvPr id="155" name="Picture 6" descr="звезда1"/>
            <p:cNvPicPr/>
            <p:nvPr/>
          </p:nvPicPr>
          <p:blipFill>
            <a:blip r:embed="rId3"/>
            <a:stretch/>
          </p:blipFill>
          <p:spPr>
            <a:xfrm>
              <a:off x="4067280" y="1268280"/>
              <a:ext cx="219708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WordArt 7"/>
            <p:cNvSpPr txBox="1"/>
            <p:nvPr/>
          </p:nvSpPr>
          <p:spPr>
            <a:xfrm>
              <a:off x="4786560" y="2131920"/>
              <a:ext cx="514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5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57" name="Group 8"/>
          <p:cNvGrpSpPr/>
          <p:nvPr/>
        </p:nvGrpSpPr>
        <p:grpSpPr>
          <a:xfrm>
            <a:off x="6372360" y="3573360"/>
            <a:ext cx="2197080" cy="2305080"/>
            <a:chOff x="6372360" y="3573360"/>
            <a:chExt cx="2197080" cy="2305080"/>
          </a:xfrm>
        </p:grpSpPr>
        <p:pic>
          <p:nvPicPr>
            <p:cNvPr id="158" name="Picture 9" descr="звезда1"/>
            <p:cNvPicPr/>
            <p:nvPr/>
          </p:nvPicPr>
          <p:blipFill>
            <a:blip r:embed="rId4"/>
            <a:stretch/>
          </p:blipFill>
          <p:spPr>
            <a:xfrm>
              <a:off x="6372360" y="3573360"/>
              <a:ext cx="219708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WordArt 10"/>
            <p:cNvSpPr txBox="1"/>
            <p:nvPr/>
          </p:nvSpPr>
          <p:spPr>
            <a:xfrm>
              <a:off x="7091640" y="4437000"/>
              <a:ext cx="514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4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0" name="Group 11"/>
          <p:cNvGrpSpPr/>
          <p:nvPr/>
        </p:nvGrpSpPr>
        <p:grpSpPr>
          <a:xfrm>
            <a:off x="-2052720" y="6093000"/>
            <a:ext cx="1882800" cy="1909440"/>
            <a:chOff x="-2052720" y="6093000"/>
            <a:chExt cx="1882800" cy="1909440"/>
          </a:xfrm>
        </p:grpSpPr>
        <p:pic>
          <p:nvPicPr>
            <p:cNvPr id="161" name="Picture 12" descr="ракета1"/>
            <p:cNvPicPr/>
            <p:nvPr/>
          </p:nvPicPr>
          <p:blipFill>
            <a:blip r:embed="rId5"/>
            <a:stretch/>
          </p:blipFill>
          <p:spPr>
            <a:xfrm>
              <a:off x="-2052720" y="6093000"/>
              <a:ext cx="1882800" cy="19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WordArt 13"/>
            <p:cNvSpPr txBox="1"/>
            <p:nvPr/>
          </p:nvSpPr>
          <p:spPr>
            <a:xfrm rot="18774000">
              <a:off x="-1444320" y="6689880"/>
              <a:ext cx="923760" cy="45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"/>
                </a:rPr>
                <a:t>59-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3" name="Group 14"/>
          <p:cNvGrpSpPr/>
          <p:nvPr/>
        </p:nvGrpSpPr>
        <p:grpSpPr>
          <a:xfrm>
            <a:off x="613800" y="3960720"/>
            <a:ext cx="2878560" cy="2945880"/>
            <a:chOff x="613800" y="3960720"/>
            <a:chExt cx="2878560" cy="2945880"/>
          </a:xfrm>
        </p:grpSpPr>
        <p:grpSp>
          <p:nvGrpSpPr>
            <p:cNvPr id="164" name="Group 15"/>
            <p:cNvGrpSpPr/>
            <p:nvPr/>
          </p:nvGrpSpPr>
          <p:grpSpPr>
            <a:xfrm>
              <a:off x="613800" y="3960720"/>
              <a:ext cx="2878560" cy="2945880"/>
              <a:chOff x="613800" y="3960720"/>
              <a:chExt cx="2878560" cy="2945880"/>
            </a:xfrm>
          </p:grpSpPr>
          <p:pic>
            <p:nvPicPr>
              <p:cNvPr id="165" name="Picture 16" descr="пламя"/>
              <p:cNvPicPr/>
              <p:nvPr/>
            </p:nvPicPr>
            <p:blipFill>
              <a:blip r:embed="rId6"/>
              <a:stretch/>
            </p:blipFill>
            <p:spPr>
              <a:xfrm rot="13354200">
                <a:off x="1104840" y="4974840"/>
                <a:ext cx="992160" cy="183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Picture 17" descr="ракета1"/>
              <p:cNvPicPr/>
              <p:nvPr/>
            </p:nvPicPr>
            <p:blipFill>
              <a:blip r:embed="rId7"/>
              <a:stretch/>
            </p:blipFill>
            <p:spPr>
              <a:xfrm>
                <a:off x="1609560" y="3960720"/>
                <a:ext cx="1882800" cy="1909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7" name="WordArt 18"/>
            <p:cNvSpPr txBox="1"/>
            <p:nvPr/>
          </p:nvSpPr>
          <p:spPr>
            <a:xfrm rot="18774000">
              <a:off x="2236680" y="4557600"/>
              <a:ext cx="923760" cy="45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"/>
                </a:rPr>
                <a:t>59-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68" name="Picture 19" descr="rocky1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468360" y="3716280"/>
            <a:ext cx="3816360" cy="288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2.22222E-006 C 0.00747 -0.0132 0.0191 -0.02176 0.02778 -0.03333 C 0.03369 -0.04121 0.03768 -0.04746 0.04532 -0.05301 C 0.05244 -0.0581 0.06042 -0.06134 0.06754 -0.06667 C 0.07778 -0.07408 0.0856 -0.08588 0.09532 -0.09375 C 0.09931 -0.09699 0.10122 -0.10046 0.10556 -0.10232 C 0.10834 -0.10602 0.11025 -0.1081 0.1139 -0.10972 C 0.11546 -0.11134 0.11685 -0.11343 0.11858 -0.11482 C 0.11945 -0.11551 0.12049 -0.11528 0.12136 -0.11597 C 0.13108 -0.12477 0.14028 -0.13542 0.15087 -0.14306 C 0.15712 -0.14769 0.16216 -0.15486 0.16945 -0.15671 C 0.17188 -0.1588 0.17414 -0.16158 0.17692 -0.16296 C 0.17935 -0.16412 0.18421 -0.16528 0.18421 -0.16528 C 0.19133 -0.17222 0.20018 -0.1757 0.20834 -0.18009 C 0.22587 -0.18958 0.24254 -0.20093 0.25903 -0.21227 C 0.26737 -0.21783 0.2757 -0.22523 0.28334 -0.23195 C 0.29185 -0.23958 0.27969 -0.23171 0.28976 -0.23935 C 0.29775 -0.24537 0.30504 -0.25162 0.31303 -0.25787 C 0.31442 -0.25903 0.31528 -0.26134 0.31667 -0.26296 C 0.32153 -0.26852 0.32726 -0.27477 0.33334 -0.27778 C 0.33907 -0.28357 0.34567 -0.29144 0.35278 -0.29375 C 0.35903 -0.30208 0.36633 -0.30394 0.37501 -0.30602 C 0.38039 -0.31088 0.3889 -0.31343 0.39532 -0.31482 C 0.3981 -0.31551 0.40365 -0.31597 0.40365 -0.31597 E">
                                      <p:cBhvr>
                                        <p:cTn id="252" dur="3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54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8.14815E-006 C 0.00764 -0.00649 0.01406 -0.01598 0.02049 -0.02454 C 0.02326 -0.02825 0.025 -0.03334 0.02778 -0.03704 C 0.03264 -0.05394 0.04549 -0.06876 0.05555 -0.0801 C 0.06389 -0.08936 0.07257 -0.09908 0.0816 -0.10741 C 0.09097 -0.11598 0.10174 -0.12223 0.11111 -0.13079 C 0.12153 -0.14005 0.13229 -0.14792 0.14271 -0.15672 C 0.15382 -0.16598 0.16458 -0.17825 0.175 -0.18889 C 0.18055 -0.19445 0.18576 -0.20348 0.1908 -0.20857 C 0.19219 -0.20996 0.1941 -0.20996 0.19549 -0.21112 C 0.20035 -0.21482 0.19826 -0.21505 0.20278 -0.21968 C 0.20712 -0.22408 0.21233 -0.22639 0.21667 -0.23079 C 0.22639 -0.24075 0.23663 -0.25186 0.24722 -0.26042 C 0.2599 -0.27061 0.24774 -0.26042 0.26024 -0.26899 C 0.27101 -0.27639 0.28038 -0.28519 0.29167 -0.29121 C 0.30035 -0.29584 0.30729 -0.30602 0.3158 -0.31112 C 0.32309 -0.31551 0.33073 -0.31899 0.33802 -0.32338 C 0.34792 -0.32963 0.35642 -0.33866 0.36667 -0.34445 C 0.3717 -0.35116 0.37708 -0.35255 0.38333 -0.35672 C 0.39201 -0.36251 0.40035 -0.3676 0.40937 -0.37269 C 0.43212 -0.38565 0.45503 -0.397 0.47778 -0.40973 C 0.48038 -0.41112 0.48264 -0.41366 0.48524 -0.41482 C 0.50243 -0.42246 0.4868 -0.41227 0.50191 -0.41968 C 0.5191 -0.42825 0.53663 -0.43403 0.55382 -0.4419 C 0.56163 -0.44538 0.5618 -0.44399 0.57049 -0.44676 C 0.5849 -0.45139 0.59878 -0.45834 0.61302 -0.46413 C 0.61476 -0.46482 0.62882 -0.47038 0.62882 -0.47038 C 0.63368 -0.47107 0.64358 -0.47269 0.64358 -0.47269 C 0.65243 -0.47616 0.66128 -0.47963 0.67049 -0.48149 C 0.67917 -0.48334 0.68507 -0.48241 0.69444 -0.48519 C 0.72049 -0.49329 0.74687 -0.49607 0.77326 -0.50116 C 0.79392 -0.5051 0.81458 -0.50973 0.83524 -0.51343 C 0.83767 -0.51436 0.84028 -0.51551 0.84271 -0.51598 C 0.84705 -0.5169 0.85555 -0.51852 0.85555 -0.51852 C 0.87951 -0.52848 0.90642 -0.53704 0.9316 -0.53704 E">
                                      <p:cBhvr>
                                        <p:cTn id="263" dur="5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71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80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4067280" y="1484280"/>
            <a:ext cx="2197080" cy="2305080"/>
            <a:chOff x="4067280" y="1484280"/>
            <a:chExt cx="2197080" cy="2305080"/>
          </a:xfrm>
        </p:grpSpPr>
        <p:pic>
          <p:nvPicPr>
            <p:cNvPr id="170" name="Picture 3" descr="звезда1"/>
            <p:cNvPicPr/>
            <p:nvPr/>
          </p:nvPicPr>
          <p:blipFill>
            <a:blip r:embed="rId2"/>
            <a:stretch/>
          </p:blipFill>
          <p:spPr>
            <a:xfrm>
              <a:off x="4067280" y="1484280"/>
              <a:ext cx="219708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WordArt 4"/>
            <p:cNvSpPr txBox="1"/>
            <p:nvPr/>
          </p:nvSpPr>
          <p:spPr>
            <a:xfrm>
              <a:off x="4786560" y="2347920"/>
              <a:ext cx="514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5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72" name="Group 5"/>
          <p:cNvGrpSpPr/>
          <p:nvPr/>
        </p:nvGrpSpPr>
        <p:grpSpPr>
          <a:xfrm>
            <a:off x="826920" y="1052640"/>
            <a:ext cx="2197080" cy="2305080"/>
            <a:chOff x="826920" y="1052640"/>
            <a:chExt cx="2197080" cy="2305080"/>
          </a:xfrm>
        </p:grpSpPr>
        <p:pic>
          <p:nvPicPr>
            <p:cNvPr id="173" name="Picture 6" descr="звезда1"/>
            <p:cNvPicPr/>
            <p:nvPr/>
          </p:nvPicPr>
          <p:blipFill>
            <a:blip r:embed="rId3"/>
            <a:stretch/>
          </p:blipFill>
          <p:spPr>
            <a:xfrm>
              <a:off x="826920" y="1052640"/>
              <a:ext cx="219708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WordArt 7"/>
            <p:cNvSpPr txBox="1"/>
            <p:nvPr/>
          </p:nvSpPr>
          <p:spPr>
            <a:xfrm>
              <a:off x="1546200" y="1916280"/>
              <a:ext cx="514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5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75" name="Group 8"/>
          <p:cNvGrpSpPr/>
          <p:nvPr/>
        </p:nvGrpSpPr>
        <p:grpSpPr>
          <a:xfrm>
            <a:off x="6372360" y="3573360"/>
            <a:ext cx="2197080" cy="2305080"/>
            <a:chOff x="6372360" y="3573360"/>
            <a:chExt cx="2197080" cy="2305080"/>
          </a:xfrm>
        </p:grpSpPr>
        <p:pic>
          <p:nvPicPr>
            <p:cNvPr id="176" name="Picture 9" descr="звезда1"/>
            <p:cNvPicPr/>
            <p:nvPr/>
          </p:nvPicPr>
          <p:blipFill>
            <a:blip r:embed="rId4"/>
            <a:stretch/>
          </p:blipFill>
          <p:spPr>
            <a:xfrm>
              <a:off x="6372360" y="3573360"/>
              <a:ext cx="219708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WordArt 10"/>
            <p:cNvSpPr txBox="1"/>
            <p:nvPr/>
          </p:nvSpPr>
          <p:spPr>
            <a:xfrm>
              <a:off x="7091640" y="4437000"/>
              <a:ext cx="514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78" name="Group 11"/>
          <p:cNvGrpSpPr/>
          <p:nvPr/>
        </p:nvGrpSpPr>
        <p:grpSpPr>
          <a:xfrm>
            <a:off x="-2052720" y="6093000"/>
            <a:ext cx="1882800" cy="1909440"/>
            <a:chOff x="-2052720" y="6093000"/>
            <a:chExt cx="1882800" cy="1909440"/>
          </a:xfrm>
        </p:grpSpPr>
        <p:pic>
          <p:nvPicPr>
            <p:cNvPr id="179" name="Picture 12" descr="ракета1"/>
            <p:cNvPicPr/>
            <p:nvPr/>
          </p:nvPicPr>
          <p:blipFill>
            <a:blip r:embed="rId5"/>
            <a:stretch/>
          </p:blipFill>
          <p:spPr>
            <a:xfrm>
              <a:off x="-2052720" y="6093000"/>
              <a:ext cx="1882800" cy="19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WordArt 13"/>
            <p:cNvSpPr txBox="1"/>
            <p:nvPr/>
          </p:nvSpPr>
          <p:spPr>
            <a:xfrm rot="18774000">
              <a:off x="-1444320" y="6689880"/>
              <a:ext cx="923760" cy="45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"/>
                </a:rPr>
                <a:t>31+2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1" name="Group 14"/>
          <p:cNvGrpSpPr/>
          <p:nvPr/>
        </p:nvGrpSpPr>
        <p:grpSpPr>
          <a:xfrm>
            <a:off x="613800" y="3960720"/>
            <a:ext cx="2878560" cy="2945880"/>
            <a:chOff x="613800" y="3960720"/>
            <a:chExt cx="2878560" cy="2945880"/>
          </a:xfrm>
        </p:grpSpPr>
        <p:grpSp>
          <p:nvGrpSpPr>
            <p:cNvPr id="182" name="Group 15"/>
            <p:cNvGrpSpPr/>
            <p:nvPr/>
          </p:nvGrpSpPr>
          <p:grpSpPr>
            <a:xfrm>
              <a:off x="613800" y="3960720"/>
              <a:ext cx="2878560" cy="2945880"/>
              <a:chOff x="613800" y="3960720"/>
              <a:chExt cx="2878560" cy="2945880"/>
            </a:xfrm>
          </p:grpSpPr>
          <p:pic>
            <p:nvPicPr>
              <p:cNvPr id="183" name="Picture 16" descr="пламя"/>
              <p:cNvPicPr/>
              <p:nvPr/>
            </p:nvPicPr>
            <p:blipFill>
              <a:blip r:embed="rId6"/>
              <a:stretch/>
            </p:blipFill>
            <p:spPr>
              <a:xfrm rot="13354200">
                <a:off x="1104840" y="4974840"/>
                <a:ext cx="992160" cy="183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Picture 17" descr="ракета1"/>
              <p:cNvPicPr/>
              <p:nvPr/>
            </p:nvPicPr>
            <p:blipFill>
              <a:blip r:embed="rId7"/>
              <a:stretch/>
            </p:blipFill>
            <p:spPr>
              <a:xfrm>
                <a:off x="1609560" y="3960720"/>
                <a:ext cx="1882800" cy="1909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5" name="WordArt 18"/>
            <p:cNvSpPr txBox="1"/>
            <p:nvPr/>
          </p:nvSpPr>
          <p:spPr>
            <a:xfrm rot="18774000">
              <a:off x="2236680" y="4557600"/>
              <a:ext cx="923760" cy="45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"/>
                </a:rPr>
                <a:t>31+2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86" name="Picture 19" descr="rocky1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468360" y="3716280"/>
            <a:ext cx="3816360" cy="288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2.22222E-006 C 0.00747 -0.0132 0.0191 -0.02176 0.02778 -0.03333 C 0.03369 -0.04121 0.03768 -0.04746 0.04532 -0.05301 C 0.05244 -0.0581 0.06042 -0.06134 0.06754 -0.06667 C 0.07778 -0.07408 0.0856 -0.08588 0.09532 -0.09375 C 0.09931 -0.09699 0.10122 -0.10046 0.10556 -0.10232 C 0.10834 -0.10602 0.11025 -0.1081 0.1139 -0.10972 C 0.11546 -0.11134 0.11685 -0.11343 0.11858 -0.11482 C 0.11945 -0.11551 0.12049 -0.11528 0.12136 -0.11597 C 0.13108 -0.12477 0.14028 -0.13542 0.15087 -0.14306 C 0.15712 -0.14769 0.16216 -0.15486 0.16945 -0.15671 C 0.17188 -0.1588 0.17414 -0.16158 0.17692 -0.16296 C 0.17935 -0.16412 0.18421 -0.16528 0.18421 -0.16528 C 0.19133 -0.17222 0.20018 -0.1757 0.20834 -0.18009 C 0.22587 -0.18958 0.24254 -0.20093 0.25903 -0.21227 C 0.26737 -0.21783 0.2757 -0.22523 0.28334 -0.23195 C 0.29185 -0.23958 0.27969 -0.23171 0.28976 -0.23935 C 0.29775 -0.24537 0.30504 -0.25162 0.31303 -0.25787 C 0.31442 -0.25903 0.31528 -0.26134 0.31667 -0.26296 C 0.32153 -0.26852 0.32726 -0.27477 0.33334 -0.27778 C 0.33907 -0.28357 0.34567 -0.29144 0.35278 -0.29375 C 0.35903 -0.30208 0.36633 -0.30394 0.37501 -0.30602 C 0.38039 -0.31088 0.3889 -0.31343 0.39532 -0.31482 C 0.3981 -0.31551 0.40365 -0.31597 0.40365 -0.31597 E">
                                      <p:cBhvr>
                                        <p:cTn id="293" dur="3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95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8.14815E-006 C 0.00764 -0.00649 0.01406 -0.01598 0.02049 -0.02454 C 0.02326 -0.02825 0.025 -0.03334 0.02778 -0.03704 C 0.03264 -0.05394 0.04549 -0.06876 0.05555 -0.0801 C 0.06389 -0.08936 0.07257 -0.09908 0.0816 -0.10741 C 0.09097 -0.11598 0.10174 -0.12223 0.11111 -0.13079 C 0.12153 -0.14005 0.13229 -0.14792 0.14271 -0.15672 C 0.15382 -0.16598 0.16458 -0.17825 0.175 -0.18889 C 0.18055 -0.19445 0.18576 -0.20348 0.1908 -0.20857 C 0.19219 -0.20996 0.1941 -0.20996 0.19549 -0.21112 C 0.20035 -0.21482 0.19826 -0.21505 0.20278 -0.21968 C 0.20712 -0.22408 0.21233 -0.22639 0.21667 -0.23079 C 0.22639 -0.24075 0.23663 -0.25186 0.24722 -0.26042 C 0.2599 -0.27061 0.24774 -0.26042 0.26024 -0.26899 C 0.27101 -0.27639 0.28038 -0.28519 0.29167 -0.29121 C 0.30035 -0.29584 0.30729 -0.30602 0.3158 -0.31112 C 0.32309 -0.31551 0.33073 -0.31899 0.33802 -0.32338 C 0.34792 -0.32963 0.35642 -0.33866 0.36667 -0.34445 C 0.3717 -0.35116 0.37708 -0.35255 0.38333 -0.35672 C 0.39201 -0.36251 0.40035 -0.3676 0.40937 -0.37269 C 0.43212 -0.38565 0.45503 -0.397 0.47778 -0.40973 C 0.48038 -0.41112 0.48264 -0.41366 0.48524 -0.41482 C 0.50243 -0.42246 0.4868 -0.41227 0.50191 -0.41968 C 0.5191 -0.42825 0.53663 -0.43403 0.55382 -0.4419 C 0.56163 -0.44538 0.5618 -0.44399 0.57049 -0.44676 C 0.5849 -0.45139 0.59878 -0.45834 0.61302 -0.46413 C 0.61476 -0.46482 0.62882 -0.47038 0.62882 -0.47038 C 0.63368 -0.47107 0.64358 -0.47269 0.64358 -0.47269 C 0.65243 -0.47616 0.66128 -0.47963 0.67049 -0.48149 C 0.67917 -0.48334 0.68507 -0.48241 0.69444 -0.48519 C 0.72049 -0.49329 0.74687 -0.49607 0.77326 -0.50116 C 0.79392 -0.5051 0.81458 -0.50973 0.83524 -0.51343 C 0.83767 -0.51436 0.84028 -0.51551 0.84271 -0.51598 C 0.84705 -0.5169 0.85555 -0.51852 0.85555 -0.51852 C 0.87951 -0.52848 0.90642 -0.53704 0.9316 -0.53704 E">
                                      <p:cBhvr>
                                        <p:cTn id="304" dur="5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12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2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16:08:15Z</dcterms:created>
  <dc:creator>Миха</dc:creator>
  <dc:description/>
  <dc:language>en-US</dc:language>
  <cp:lastModifiedBy>Борис</cp:lastModifiedBy>
  <dcterms:modified xsi:type="dcterms:W3CDTF">2014-09-01T16:31:00Z</dcterms:modified>
  <cp:revision>11</cp:revision>
  <dc:subject/>
  <dc:title>Слайд 1</dc:title>
</cp:coreProperties>
</file>